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0AB-820F-48D4-8D43-84DBA752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603-FD1D-44D1-8A8A-01BB6263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3CB-FAFB-40AE-876B-152A9FF4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2969-2566-4C4F-B84E-4E012BC3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0845-0828-4F79-9D69-D85E4BAA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3054-0D8E-4E1C-8373-C4AC9913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20FA-164A-429A-89A7-B5CBC60D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4587-20D3-49D7-AB32-D6038C13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6B35-254C-4349-A67B-1D134149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511F-BCEA-4B16-AFBC-13CA4F8C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26E4-1BC3-4744-B4D7-A97FAAC3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FA7-E1C5-4E21-BC2C-8C66678D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0DC3-D9A8-42BA-9A89-B994322D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0909-B99B-4943-9002-906758A9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BD71-9C5A-47D6-9886-E52598E1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B957-265A-4010-93BF-DDB71E09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5599-937D-44B1-A8BE-A5FCEE51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0CB-60E6-433E-8A4A-6A4E82E6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178-4826-43C8-BFAA-CD862110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BED9-1DF9-41B9-B8C3-F2CDB215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6D8-056A-4EF4-9609-BFD696C3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258-A9A4-4A59-983F-E5553233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A1E-839C-4F53-A64A-D4D72C3E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6BD-3955-4620-B95B-F829C8B7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80D2-EAC4-4074-A9AD-29BD35CFF4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D5DC-5889-4AFD-8D18-CAA168667C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560" y="236232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Ιδανικό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-bi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βαντιστή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16480" y="1828800"/>
            <a:ext cx="4941720" cy="1703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320" y="3236760"/>
            <a:ext cx="4038480" cy="3468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908960" y="3924360"/>
            <a:ext cx="4069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ις περισσότερες περιπτώσεις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</a:t>
            </a:r>
            <a:r>
              <a:rPr b="0" lang="el-GR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ΜΑΧ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Ι</a:t>
            </a:r>
            <a:r>
              <a:rPr b="0" lang="el-GR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ΜΑ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</a:t>
            </a:r>
            <a:r>
              <a:rPr b="0" lang="el-GR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ΜΙ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Ι</a:t>
            </a:r>
            <a:r>
              <a:rPr b="0" lang="el-GR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ΜΙ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36680" y="4915080"/>
            <a:ext cx="419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ριθμός τω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ου κβαντιστή, τότ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φάλμα κβαντισμού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ίν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867280" y="5638680"/>
          <a:ext cx="152424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5638680"/>
                    <a:ext cx="15242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7FC-4145-48A4-962D-FE76D25C09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-35640" y="6548400"/>
            <a:ext cx="239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4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72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433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572000" y="2895480"/>
          <a:ext cx="16002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95480"/>
                    <a:ext cx="16002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2133720" y="182880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ΚΑΤΑΓΡΑΦΗ ΑΡΙΘΜ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90720" y="23623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κέραιοι Αριθμοί (χωρίς πρόσημο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62120" y="2971800"/>
            <a:ext cx="2864880" cy="453960"/>
            <a:chOff x="762120" y="2971800"/>
            <a:chExt cx="2864880" cy="453960"/>
          </a:xfrm>
        </p:grpSpPr>
        <p:sp>
          <p:nvSpPr>
            <p:cNvPr id="344" name=""/>
            <p:cNvSpPr/>
            <p:nvPr/>
          </p:nvSpPr>
          <p:spPr>
            <a:xfrm>
              <a:off x="909360" y="2971800"/>
              <a:ext cx="6188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Ι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W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2120" y="2971800"/>
              <a:ext cx="914040" cy="4539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98560" y="2971800"/>
              <a:ext cx="882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76160" y="2971800"/>
              <a:ext cx="1126800" cy="4539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22480" y="2971800"/>
              <a:ext cx="704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15920" y="2971800"/>
              <a:ext cx="612360" cy="4539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1143000" y="37339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κέραιοι Αριθμοί (με πρόσημο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838080" y="4343400"/>
            <a:ext cx="2590200" cy="533160"/>
            <a:chOff x="838080" y="4343400"/>
            <a:chExt cx="2590200" cy="533160"/>
          </a:xfrm>
        </p:grpSpPr>
        <p:grpSp>
          <p:nvGrpSpPr>
            <p:cNvPr id="352" name=""/>
            <p:cNvGrpSpPr/>
            <p:nvPr/>
          </p:nvGrpSpPr>
          <p:grpSpPr>
            <a:xfrm>
              <a:off x="838080" y="4347000"/>
              <a:ext cx="546480" cy="529560"/>
              <a:chOff x="838080" y="4347000"/>
              <a:chExt cx="546480" cy="529560"/>
            </a:xfrm>
          </p:grpSpPr>
          <p:sp>
            <p:nvSpPr>
              <p:cNvPr id="353" name=""/>
              <p:cNvSpPr/>
              <p:nvPr/>
            </p:nvSpPr>
            <p:spPr>
              <a:xfrm>
                <a:off x="926280" y="4347000"/>
                <a:ext cx="36936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38080" y="4347000"/>
                <a:ext cx="546480" cy="529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1384920" y="4347000"/>
              <a:ext cx="747720" cy="529560"/>
              <a:chOff x="1384920" y="4347000"/>
              <a:chExt cx="747720" cy="529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86080" y="4347000"/>
                <a:ext cx="54540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W-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84920" y="4347000"/>
                <a:ext cx="747720" cy="529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2133360" y="4343400"/>
              <a:ext cx="602280" cy="529560"/>
              <a:chOff x="2133360" y="4343400"/>
              <a:chExt cx="602280" cy="529560"/>
            </a:xfrm>
          </p:grpSpPr>
          <p:sp>
            <p:nvSpPr>
              <p:cNvPr id="359" name=""/>
              <p:cNvSpPr/>
              <p:nvPr/>
            </p:nvSpPr>
            <p:spPr>
              <a:xfrm>
                <a:off x="2198880" y="4343400"/>
                <a:ext cx="47052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133360" y="4343400"/>
                <a:ext cx="602280" cy="529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748600" y="4343400"/>
              <a:ext cx="679680" cy="529560"/>
              <a:chOff x="2748600" y="4343400"/>
              <a:chExt cx="679680" cy="529560"/>
            </a:xfrm>
          </p:grpSpPr>
          <p:sp>
            <p:nvSpPr>
              <p:cNvPr id="362" name=""/>
              <p:cNvSpPr/>
              <p:nvPr/>
            </p:nvSpPr>
            <p:spPr>
              <a:xfrm>
                <a:off x="2826720" y="4343400"/>
                <a:ext cx="52344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748600" y="4343400"/>
                <a:ext cx="679680" cy="529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64" name=""/>
          <p:cNvGraphicFramePr/>
          <p:nvPr/>
        </p:nvGraphicFramePr>
        <p:xfrm>
          <a:off x="4038480" y="4343400"/>
          <a:ext cx="1752840" cy="63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4343400"/>
                    <a:ext cx="175284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6477120" y="4343400"/>
          <a:ext cx="1731960" cy="64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4343400"/>
                    <a:ext cx="17319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1143000" y="51814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ριθμοί σταθερής υποδιαστολή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477120" y="5638680"/>
          <a:ext cx="18478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5638680"/>
                    <a:ext cx="1847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1" name=""/>
          <p:cNvGrpSpPr/>
          <p:nvPr/>
        </p:nvGrpSpPr>
        <p:grpSpPr>
          <a:xfrm>
            <a:off x="838080" y="5562720"/>
            <a:ext cx="5119200" cy="834840"/>
            <a:chOff x="838080" y="5562720"/>
            <a:chExt cx="5119200" cy="834840"/>
          </a:xfrm>
        </p:grpSpPr>
        <p:grpSp>
          <p:nvGrpSpPr>
            <p:cNvPr id="372" name=""/>
            <p:cNvGrpSpPr/>
            <p:nvPr/>
          </p:nvGrpSpPr>
          <p:grpSpPr>
            <a:xfrm>
              <a:off x="838080" y="5867280"/>
              <a:ext cx="5119200" cy="530280"/>
              <a:chOff x="838080" y="5867280"/>
              <a:chExt cx="5119200" cy="53028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838080" y="5867280"/>
                <a:ext cx="721800" cy="530280"/>
                <a:chOff x="838080" y="5867280"/>
                <a:chExt cx="721800" cy="5302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954720" y="5867280"/>
                  <a:ext cx="48780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38080" y="5867280"/>
                  <a:ext cx="721800" cy="53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1560240" y="5867280"/>
                <a:ext cx="863280" cy="530280"/>
                <a:chOff x="1560240" y="5867280"/>
                <a:chExt cx="863280" cy="5302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1677240" y="5867280"/>
                  <a:ext cx="62964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W-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560240" y="5867280"/>
                  <a:ext cx="863280" cy="53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411440" y="5867280"/>
                <a:ext cx="539280" cy="525240"/>
                <a:chOff x="4411440" y="5867280"/>
                <a:chExt cx="539280" cy="5252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484160" y="5867280"/>
                  <a:ext cx="39312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411440" y="5867280"/>
                  <a:ext cx="53928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2887560" y="5867280"/>
                <a:ext cx="685440" cy="530280"/>
                <a:chOff x="2887560" y="5867280"/>
                <a:chExt cx="685440" cy="5302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015720" y="5867280"/>
                  <a:ext cx="42840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887560" y="5867280"/>
                  <a:ext cx="685440" cy="53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3573360" y="5867280"/>
                <a:ext cx="837720" cy="530280"/>
                <a:chOff x="3573360" y="5867280"/>
                <a:chExt cx="837720" cy="5302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664800" y="5867280"/>
                  <a:ext cx="65448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573360" y="5867280"/>
                  <a:ext cx="837720" cy="53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4944960" y="5867280"/>
                <a:ext cx="1012320" cy="525240"/>
                <a:chOff x="4944960" y="5867280"/>
                <a:chExt cx="1012320" cy="52524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061240" y="5867280"/>
                  <a:ext cx="77940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-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944960" y="5867280"/>
                  <a:ext cx="101232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2430360" y="5867280"/>
                <a:ext cx="457200" cy="525240"/>
                <a:chOff x="2430360" y="5867280"/>
                <a:chExt cx="457200" cy="52524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2492280" y="5867280"/>
                  <a:ext cx="33336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430360" y="5867280"/>
                  <a:ext cx="45720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4" name=""/>
            <p:cNvSpPr/>
            <p:nvPr/>
          </p:nvSpPr>
          <p:spPr>
            <a:xfrm flipH="1">
              <a:off x="914400" y="571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71800" y="55627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05320" y="5715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A01-DBCC-4AA4-901F-AA72F4A395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95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4960" y="2171880"/>
            <a:ext cx="85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-bi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ταροπέας, μετατρέπει τις κβαντισμένες               τιμές εξόδου σε μι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-bi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λέξ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162400" y="2143080"/>
          <a:ext cx="762120" cy="3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2400" y="2143080"/>
                    <a:ext cx="762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312920" y="2682720"/>
            <a:ext cx="6518160" cy="517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3400" y="3581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Βασισμένος στις σχέσει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90720" y="4027320"/>
          <a:ext cx="6019560" cy="46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4027320"/>
                    <a:ext cx="60195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96840" y="4648320"/>
          <a:ext cx="7004160" cy="46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96840" y="4648320"/>
                    <a:ext cx="70041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001880" y="5551560"/>
          <a:ext cx="7072200" cy="46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01880" y="5551560"/>
                    <a:ext cx="70722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051560" y="4991040"/>
            <a:ext cx="3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2029-31D7-45C8-860E-4ABF88954B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71560" y="2378160"/>
            <a:ext cx="7399440" cy="318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2971800" y="5562720"/>
          <a:ext cx="3200400" cy="82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5562720"/>
                    <a:ext cx="320040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992880" y="1981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E8D-ED30-43BD-942F-890959341E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2967120" cy="3124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809880" y="2057400"/>
            <a:ext cx="4572000" cy="426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CD62-27A2-4914-B6E1-6B7043BC0D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95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5640" y="191916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5480" y="2411280"/>
            <a:ext cx="7556400" cy="366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B56E-0038-4EF0-8233-1AA703C629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04200" y="191916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ΨΗΦΙΑΚΟΣ ΕΛΕΓΧ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33640" y="2525760"/>
            <a:ext cx="6876720" cy="2198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80280" y="4915080"/>
            <a:ext cx="47005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ΟΜΙΚΑ ΣΤΟΙΧΕΙ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/DAC: -Q-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ύρος λειτουργίας: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Ι</a:t>
            </a:r>
            <a:r>
              <a:rPr b="0" lang="el-GR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ΜΑΧ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(Ο</a:t>
            </a:r>
            <a:r>
              <a:rPr b="0" lang="el-GR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ΜΙ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Ο</a:t>
            </a:r>
            <a:r>
              <a:rPr b="0" lang="el-GR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ΜΑΧ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5C04-8CC4-4ADD-9558-0A2162949A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33120" y="6521400"/>
            <a:ext cx="26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72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28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292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105160" y="1676160"/>
            <a:ext cx="4038480" cy="2819160"/>
            <a:chOff x="5105160" y="1676160"/>
            <a:chExt cx="4038480" cy="2819160"/>
          </a:xfrm>
        </p:grpSpPr>
        <p:sp>
          <p:nvSpPr>
            <p:cNvPr id="170" name=""/>
            <p:cNvSpPr/>
            <p:nvPr/>
          </p:nvSpPr>
          <p:spPr>
            <a:xfrm flipV="1">
              <a:off x="7139160" y="167616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08720" y="3180600"/>
              <a:ext cx="346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144120" y="2240640"/>
              <a:ext cx="1913040" cy="190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57160" y="2240640"/>
              <a:ext cx="0" cy="93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139160" y="2240640"/>
              <a:ext cx="91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35120" y="4120200"/>
              <a:ext cx="1003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6135120" y="3180600"/>
              <a:ext cx="0" cy="93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10280" y="3366720"/>
              <a:ext cx="3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63680" y="1676520"/>
              <a:ext cx="29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90480" y="3305160"/>
              <a:ext cx="83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Ι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89200" y="2051640"/>
              <a:ext cx="93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61440" y="2866680"/>
              <a:ext cx="73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79840" y="380664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47080" y="2263680"/>
              <a:ext cx="86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105160" y="4142880"/>
              <a:ext cx="103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28600" y="20574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Χαρακτηριστική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C &amp; DA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ότα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267080" y="2057400"/>
          <a:ext cx="91440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057400"/>
                    <a:ext cx="914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80880" y="2514600"/>
          <a:ext cx="350532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35053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04920" y="3505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 χρήση τελεστικού ενισχυτ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1148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ικρότερη συχνότητα δειγματοληψίας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46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04920" y="4495680"/>
          <a:ext cx="68580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6858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752480" y="4419720"/>
          <a:ext cx="1524240" cy="69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4419720"/>
                    <a:ext cx="152424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14300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45720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υπικές τιμές: 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Hz, 1MHz,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59436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ο εργαστήριο χρησιμοποιείται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I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-6024Ε σύστημα συλλογής δεδομένων με 16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Cs, 2DAC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=12,Imax=-Imin=10Volt, F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0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510552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ύξησ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  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ικραίνει το σφάλμα ψηφιοποίησης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αυξάνει το κόστ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410080" y="4876920"/>
          <a:ext cx="1371600" cy="771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4876920"/>
                    <a:ext cx="13716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70D-DB97-4E49-9324-640AD113C0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3120" y="6521400"/>
            <a:ext cx="26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72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19051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ριθμοί Κινητής Υποδιαστολή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66688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ISSA 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ύρο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33520" y="3048120"/>
            <a:ext cx="4876200" cy="533160"/>
            <a:chOff x="533520" y="3048120"/>
            <a:chExt cx="4876200" cy="533160"/>
          </a:xfrm>
        </p:grpSpPr>
        <p:grpSp>
          <p:nvGrpSpPr>
            <p:cNvPr id="216" name=""/>
            <p:cNvGrpSpPr/>
            <p:nvPr/>
          </p:nvGrpSpPr>
          <p:grpSpPr>
            <a:xfrm>
              <a:off x="540000" y="3051720"/>
              <a:ext cx="4861440" cy="525240"/>
              <a:chOff x="540000" y="3051720"/>
              <a:chExt cx="4861440" cy="52524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540000" y="3051720"/>
                <a:ext cx="607680" cy="525240"/>
                <a:chOff x="540000" y="3051720"/>
                <a:chExt cx="607680" cy="5252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38280" y="3051720"/>
                  <a:ext cx="41076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40000" y="3051720"/>
                  <a:ext cx="60768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1148040" y="3051720"/>
                <a:ext cx="726120" cy="525240"/>
                <a:chOff x="1148040" y="3051720"/>
                <a:chExt cx="726120" cy="5252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246320" y="3051720"/>
                  <a:ext cx="52992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148040" y="3051720"/>
                  <a:ext cx="72612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1874520" y="3051720"/>
                <a:ext cx="726840" cy="525240"/>
                <a:chOff x="1874520" y="3051720"/>
                <a:chExt cx="726840" cy="525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972800" y="3051720"/>
                  <a:ext cx="52992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874520" y="3051720"/>
                  <a:ext cx="72684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2602080" y="3051720"/>
                <a:ext cx="522360" cy="525240"/>
                <a:chOff x="2602080" y="3051720"/>
                <a:chExt cx="522360" cy="5252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2699640" y="3051720"/>
                  <a:ext cx="32652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602080" y="3051720"/>
                  <a:ext cx="52236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3125160" y="3051720"/>
                <a:ext cx="900360" cy="525240"/>
                <a:chOff x="3125160" y="3051720"/>
                <a:chExt cx="900360" cy="5252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223440" y="3051720"/>
                  <a:ext cx="70344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125160" y="3051720"/>
                  <a:ext cx="90036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4025880" y="3051720"/>
                <a:ext cx="523080" cy="525240"/>
                <a:chOff x="4025880" y="3051720"/>
                <a:chExt cx="523080" cy="5252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123800" y="3051720"/>
                  <a:ext cx="32688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025880" y="3051720"/>
                  <a:ext cx="52308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4549680" y="3051720"/>
                <a:ext cx="851760" cy="525240"/>
                <a:chOff x="4549680" y="3051720"/>
                <a:chExt cx="851760" cy="5252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4647600" y="3051720"/>
                  <a:ext cx="65592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M-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549680" y="3051720"/>
                  <a:ext cx="85176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8" name=""/>
            <p:cNvSpPr/>
            <p:nvPr/>
          </p:nvSpPr>
          <p:spPr>
            <a:xfrm>
              <a:off x="533520" y="3048120"/>
              <a:ext cx="4876200" cy="5331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85800" y="36576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41911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NENT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κθετικ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33520" y="4572000"/>
            <a:ext cx="4266720" cy="533520"/>
            <a:chOff x="533520" y="4572000"/>
            <a:chExt cx="4266720" cy="533520"/>
          </a:xfrm>
        </p:grpSpPr>
        <p:grpSp>
          <p:nvGrpSpPr>
            <p:cNvPr id="242" name=""/>
            <p:cNvGrpSpPr/>
            <p:nvPr/>
          </p:nvGrpSpPr>
          <p:grpSpPr>
            <a:xfrm>
              <a:off x="540360" y="4574160"/>
              <a:ext cx="4251960" cy="528480"/>
              <a:chOff x="540360" y="4574160"/>
              <a:chExt cx="4251960" cy="52848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540360" y="4574160"/>
                <a:ext cx="610560" cy="528480"/>
                <a:chOff x="540360" y="4574160"/>
                <a:chExt cx="610560" cy="5284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43320" y="4574160"/>
                  <a:ext cx="40464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40360" y="4574160"/>
                  <a:ext cx="61056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1151280" y="4574160"/>
                <a:ext cx="776160" cy="528480"/>
                <a:chOff x="1151280" y="4574160"/>
                <a:chExt cx="776160" cy="52848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254240" y="4574160"/>
                  <a:ext cx="57024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-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151280" y="4574160"/>
                  <a:ext cx="77616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1927800" y="4574160"/>
                <a:ext cx="483840" cy="528480"/>
                <a:chOff x="1927800" y="4574160"/>
                <a:chExt cx="483840" cy="5284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030760" y="4574160"/>
                  <a:ext cx="27756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927800" y="4574160"/>
                  <a:ext cx="48384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2412360" y="4574160"/>
                <a:ext cx="488520" cy="528480"/>
                <a:chOff x="2412360" y="4574160"/>
                <a:chExt cx="488520" cy="5284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515320" y="4574160"/>
                  <a:ext cx="28224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412360" y="4574160"/>
                  <a:ext cx="48852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2901600" y="4574160"/>
                <a:ext cx="751680" cy="528480"/>
                <a:chOff x="2901600" y="4574160"/>
                <a:chExt cx="751680" cy="5284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3004200" y="4574160"/>
                  <a:ext cx="54648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901600" y="4574160"/>
                  <a:ext cx="75168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654000" y="4574160"/>
                <a:ext cx="517680" cy="528480"/>
                <a:chOff x="3654000" y="4574160"/>
                <a:chExt cx="517680" cy="5284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756960" y="4574160"/>
                  <a:ext cx="31104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654000" y="4574160"/>
                  <a:ext cx="51768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172040" y="4574160"/>
                <a:ext cx="620280" cy="528480"/>
                <a:chOff x="4172040" y="4574160"/>
                <a:chExt cx="620280" cy="5284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274640" y="4574160"/>
                  <a:ext cx="41436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172040" y="4574160"/>
                  <a:ext cx="62028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533520" y="4572000"/>
              <a:ext cx="4266720" cy="533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09480" y="5257800"/>
            <a:ext cx="685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ISSA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ίναι 0 (1) ο αριθμός είναι θετικός (αρνητικός)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A9E-C958-4010-83AE-4138866173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-35640" y="6548400"/>
            <a:ext cx="239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4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72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22860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ριθμός εύρους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433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666880" y="2057400"/>
          <a:ext cx="121932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057400"/>
                    <a:ext cx="121932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762120" y="2819520"/>
          <a:ext cx="1295280" cy="82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819520"/>
                    <a:ext cx="129528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1" name=""/>
          <p:cNvGrpSpPr/>
          <p:nvPr/>
        </p:nvGrpSpPr>
        <p:grpSpPr>
          <a:xfrm>
            <a:off x="533520" y="4267080"/>
            <a:ext cx="3733560" cy="380880"/>
            <a:chOff x="533520" y="4267080"/>
            <a:chExt cx="3733560" cy="380880"/>
          </a:xfrm>
        </p:grpSpPr>
        <p:sp>
          <p:nvSpPr>
            <p:cNvPr id="282" name=""/>
            <p:cNvSpPr/>
            <p:nvPr/>
          </p:nvSpPr>
          <p:spPr>
            <a:xfrm>
              <a:off x="990720" y="4267080"/>
              <a:ext cx="7617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1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28800" y="4267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*</a:t>
              </a: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l-GR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1</a:t>
              </a: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*</a:t>
              </a: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l-GR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2</a:t>
              </a: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=0.7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3520" y="4267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33520" y="4800600"/>
            <a:ext cx="3733560" cy="407880"/>
            <a:chOff x="533520" y="4800600"/>
            <a:chExt cx="3733560" cy="407880"/>
          </a:xfrm>
        </p:grpSpPr>
        <p:sp>
          <p:nvSpPr>
            <p:cNvPr id="286" name=""/>
            <p:cNvSpPr/>
            <p:nvPr/>
          </p:nvSpPr>
          <p:spPr>
            <a:xfrm>
              <a:off x="990720" y="4800600"/>
              <a:ext cx="7617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1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28800" y="480060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3520" y="4800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9" name=""/>
            <p:cNvGraphicFramePr/>
            <p:nvPr/>
          </p:nvGraphicFramePr>
          <p:xfrm>
            <a:off x="2133720" y="4800600"/>
            <a:ext cx="1780920" cy="407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33720" y="4800600"/>
                      <a:ext cx="17809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1" name=""/>
          <p:cNvGrpSpPr/>
          <p:nvPr/>
        </p:nvGrpSpPr>
        <p:grpSpPr>
          <a:xfrm>
            <a:off x="685800" y="5334120"/>
            <a:ext cx="3200400" cy="380880"/>
            <a:chOff x="685800" y="5334120"/>
            <a:chExt cx="3200400" cy="380880"/>
          </a:xfrm>
        </p:grpSpPr>
        <p:sp>
          <p:nvSpPr>
            <p:cNvPr id="292" name=""/>
            <p:cNvSpPr/>
            <p:nvPr/>
          </p:nvSpPr>
          <p:spPr>
            <a:xfrm>
              <a:off x="685800" y="5334120"/>
              <a:ext cx="762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1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52480" y="5334120"/>
              <a:ext cx="762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1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4" name=""/>
            <p:cNvGraphicFramePr/>
            <p:nvPr/>
          </p:nvGraphicFramePr>
          <p:xfrm>
            <a:off x="2666880" y="5334120"/>
            <a:ext cx="1219320" cy="376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66880" y="5334120"/>
                      <a:ext cx="121932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6" name=""/>
          <p:cNvSpPr/>
          <p:nvPr/>
        </p:nvSpPr>
        <p:spPr>
          <a:xfrm>
            <a:off x="2362320" y="3048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έγιστος Αριθμός Εύρου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5715000"/>
            <a:ext cx="6248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precision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συνολικά χρησιμοποιεί 3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8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και 24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precision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συνολικά χρησιμοποιεί 16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8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και 8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337000" y="2971800"/>
            <a:ext cx="1490760" cy="380880"/>
            <a:chOff x="5337000" y="2971800"/>
            <a:chExt cx="1490760" cy="380880"/>
          </a:xfrm>
        </p:grpSpPr>
        <p:grpSp>
          <p:nvGrpSpPr>
            <p:cNvPr id="299" name=""/>
            <p:cNvGrpSpPr/>
            <p:nvPr/>
          </p:nvGrpSpPr>
          <p:grpSpPr>
            <a:xfrm>
              <a:off x="5337000" y="2975040"/>
              <a:ext cx="304920" cy="377640"/>
              <a:chOff x="5337000" y="2975040"/>
              <a:chExt cx="304920" cy="377640"/>
            </a:xfrm>
          </p:grpSpPr>
          <p:sp>
            <p:nvSpPr>
              <p:cNvPr id="300" name=""/>
              <p:cNvSpPr/>
              <p:nvPr/>
            </p:nvSpPr>
            <p:spPr>
              <a:xfrm>
                <a:off x="5386320" y="2975040"/>
                <a:ext cx="2059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337000" y="2975040"/>
                <a:ext cx="304920" cy="377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5641920" y="2975040"/>
              <a:ext cx="363600" cy="377640"/>
              <a:chOff x="5641920" y="2975040"/>
              <a:chExt cx="363600" cy="377640"/>
            </a:xfrm>
          </p:grpSpPr>
          <p:sp>
            <p:nvSpPr>
              <p:cNvPr id="303" name=""/>
              <p:cNvSpPr/>
              <p:nvPr/>
            </p:nvSpPr>
            <p:spPr>
              <a:xfrm>
                <a:off x="5690880" y="2975040"/>
                <a:ext cx="2653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641920" y="2975040"/>
                <a:ext cx="363600" cy="377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943600" y="2971800"/>
              <a:ext cx="450720" cy="378000"/>
              <a:chOff x="5943600" y="2971800"/>
              <a:chExt cx="450720" cy="378000"/>
            </a:xfrm>
          </p:grpSpPr>
          <p:sp>
            <p:nvSpPr>
              <p:cNvPr id="306" name=""/>
              <p:cNvSpPr/>
              <p:nvPr/>
            </p:nvSpPr>
            <p:spPr>
              <a:xfrm>
                <a:off x="5992560" y="2971800"/>
                <a:ext cx="3520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43600" y="2971800"/>
                <a:ext cx="450720" cy="378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400800" y="2971800"/>
              <a:ext cx="426960" cy="378000"/>
              <a:chOff x="6400800" y="2971800"/>
              <a:chExt cx="426960" cy="378000"/>
            </a:xfrm>
          </p:grpSpPr>
          <p:sp>
            <p:nvSpPr>
              <p:cNvPr id="309" name=""/>
              <p:cNvSpPr/>
              <p:nvPr/>
            </p:nvSpPr>
            <p:spPr>
              <a:xfrm>
                <a:off x="6449760" y="2971800"/>
                <a:ext cx="3286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2971800"/>
                <a:ext cx="426960" cy="378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11" name=""/>
          <p:cNvGraphicFramePr/>
          <p:nvPr/>
        </p:nvGraphicFramePr>
        <p:xfrm>
          <a:off x="7010280" y="2971800"/>
          <a:ext cx="1067040" cy="44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2971800"/>
                    <a:ext cx="106704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2286000" y="3581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έγιστος Αριθμός Έκθεσ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334120" y="3581280"/>
            <a:ext cx="1490040" cy="380880"/>
            <a:chOff x="5334120" y="3581280"/>
            <a:chExt cx="1490040" cy="380880"/>
          </a:xfrm>
        </p:grpSpPr>
        <p:grpSp>
          <p:nvGrpSpPr>
            <p:cNvPr id="315" name=""/>
            <p:cNvGrpSpPr/>
            <p:nvPr/>
          </p:nvGrpSpPr>
          <p:grpSpPr>
            <a:xfrm>
              <a:off x="5334120" y="3584520"/>
              <a:ext cx="304560" cy="377640"/>
              <a:chOff x="5334120" y="3584520"/>
              <a:chExt cx="304560" cy="377640"/>
            </a:xfrm>
          </p:grpSpPr>
          <p:sp>
            <p:nvSpPr>
              <p:cNvPr id="316" name=""/>
              <p:cNvSpPr/>
              <p:nvPr/>
            </p:nvSpPr>
            <p:spPr>
              <a:xfrm>
                <a:off x="5383440" y="3584520"/>
                <a:ext cx="2059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34120" y="3584520"/>
                <a:ext cx="304560" cy="377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5638680" y="3584520"/>
              <a:ext cx="363240" cy="377640"/>
              <a:chOff x="5638680" y="3584520"/>
              <a:chExt cx="363240" cy="377640"/>
            </a:xfrm>
          </p:grpSpPr>
          <p:sp>
            <p:nvSpPr>
              <p:cNvPr id="319" name=""/>
              <p:cNvSpPr/>
              <p:nvPr/>
            </p:nvSpPr>
            <p:spPr>
              <a:xfrm>
                <a:off x="5687640" y="3584520"/>
                <a:ext cx="26496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638680" y="3584520"/>
                <a:ext cx="363240" cy="377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5940360" y="3581280"/>
              <a:ext cx="450360" cy="378000"/>
              <a:chOff x="5940360" y="3581280"/>
              <a:chExt cx="450360" cy="378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989320" y="3581280"/>
                <a:ext cx="3517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940360" y="3581280"/>
                <a:ext cx="450360" cy="378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397560" y="3581280"/>
              <a:ext cx="426600" cy="378000"/>
              <a:chOff x="6397560" y="3581280"/>
              <a:chExt cx="426600" cy="378000"/>
            </a:xfrm>
          </p:grpSpPr>
          <p:sp>
            <p:nvSpPr>
              <p:cNvPr id="325" name=""/>
              <p:cNvSpPr/>
              <p:nvPr/>
            </p:nvSpPr>
            <p:spPr>
              <a:xfrm>
                <a:off x="6446520" y="3581280"/>
                <a:ext cx="328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397560" y="3581280"/>
                <a:ext cx="426600" cy="378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27" name=""/>
          <p:cNvGraphicFramePr/>
          <p:nvPr/>
        </p:nvGraphicFramePr>
        <p:xfrm>
          <a:off x="7162920" y="3581280"/>
          <a:ext cx="1030320" cy="446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2920" y="3581280"/>
                    <a:ext cx="10303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547-64DF-447A-8367-7683AEA729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0:47:47Z</dcterms:created>
  <dc:creator>WIN2K</dc:creator>
  <dc:description/>
  <dc:language>en-US</dc:language>
  <cp:lastModifiedBy>WinUser</cp:lastModifiedBy>
  <dcterms:modified xsi:type="dcterms:W3CDTF">2004-04-26T08:11:5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7496179</vt:r8>
  </property>
  <property fmtid="{D5CDD505-2E9C-101B-9397-08002B2CF9AE}" pid="3" name="_AuthorEmail">
    <vt:lpwstr>tzes@ee.upatras.gr</vt:lpwstr>
  </property>
  <property fmtid="{D5CDD505-2E9C-101B-9397-08002B2CF9AE}" pid="4" name="_AuthorEmailDisplayName">
    <vt:lpwstr>Tzes Anthony</vt:lpwstr>
  </property>
  <property fmtid="{D5CDD505-2E9C-101B-9397-08002B2CF9AE}" pid="5" name="_EmailSubject">
    <vt:lpwstr>Power_point_presentations_4_SAE2</vt:lpwstr>
  </property>
</Properties>
</file>