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431-A7E4-452E-ACB2-A28CEE95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12A-771C-4340-97B5-1AA9A7F6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E59-2EB4-46A3-B9FF-5F5E4113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B1A-F17E-416E-A8FF-5F607581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8D94-5444-4CB0-9E8C-3D8A3E48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DB78-3391-4B9D-85C6-B9A36425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734A-102D-497F-A500-95ADD193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235F-46D7-4870-9347-97BFCC1A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6558-738B-41EA-B891-9ABD0A00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AAB8-8A7E-4621-B9BB-863E9E51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1936-0384-4643-A77D-FDB02315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E49-806C-448E-AD09-837AB90E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B173-54B8-4244-8277-337298DB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52F8-FDEA-45BA-9B08-090AA9C7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AE36-575D-497C-AC3A-CCAF92F2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3634-E367-4F1E-9044-6196CD8D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9BA5-11E8-4B25-868D-9B620BC0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4FA-E185-4A26-8CFE-83C972B6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813-832A-43D6-BAD6-DD71633C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8EF-001F-444B-8A76-61E594A8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895-7C3F-419C-817C-E4557765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7E5-D9BE-48CB-BF4D-9E456C94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985-E456-4648-BA85-7055DE37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31E-C403-4E94-9970-AEC0CC5E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2DB0-C94A-4427-8082-A876635EA8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E577-DDCD-4314-85E2-9D418B26F4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image" Target="../media/image29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04560" y="194328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ντονισμό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D-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λεγκτή από το πεδίο συχνότητ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243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294000" y="5943600"/>
          <a:ext cx="152100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94000" y="5943600"/>
                    <a:ext cx="1521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12760" y="6110280"/>
            <a:ext cx="31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ό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de-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ιάγραμμα μέτρ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242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029200" y="5867280"/>
          <a:ext cx="1228680" cy="7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5867280"/>
                    <a:ext cx="12286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362320" y="2209680"/>
            <a:ext cx="3689280" cy="381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7ADE-CFB2-4A8A-98F3-345F4B1D60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20760" y="182880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ΕΙΟΝΕΚΤΗΜΑΤ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-N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ΜΕΘΟΔ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362320"/>
            <a:ext cx="8001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το συντονισμό τω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αραμέτρων απαιτείται η λειτουργία του κλειστού συστήματος σε συνθήκε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ρίσιμης ευστάθεια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Ζ-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έθοδος προτείνει όρια εκτός των οποίων βρίδκονται ο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αράμετρο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το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on-line”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ντονισμ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-I-D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αραμέτρων μπορούν να χρησιμοποιηθούν στοιχεί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ΟΣΑΡΜΟΣΤΙΚΟΥ ΕΛΕΓΧΟ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66680" y="4191120"/>
            <a:ext cx="7010280" cy="2209680"/>
            <a:chOff x="1066680" y="4191120"/>
            <a:chExt cx="7010280" cy="2209680"/>
          </a:xfrm>
        </p:grpSpPr>
        <p:sp>
          <p:nvSpPr>
            <p:cNvPr id="122" name=""/>
            <p:cNvSpPr/>
            <p:nvPr/>
          </p:nvSpPr>
          <p:spPr>
            <a:xfrm>
              <a:off x="1066680" y="5523840"/>
              <a:ext cx="72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35880" y="5142960"/>
              <a:ext cx="744840" cy="63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4191120"/>
              <a:ext cx="19180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ΚΤΙΜΗΤΗ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3800" y="5523840"/>
              <a:ext cx="251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50640" y="5142960"/>
              <a:ext cx="743400" cy="63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0120" y="5238000"/>
              <a:ext cx="39672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89320" y="5523840"/>
              <a:ext cx="59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78200" y="5523840"/>
              <a:ext cx="99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240800" y="4381200"/>
              <a:ext cx="0" cy="11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40800" y="4381560"/>
              <a:ext cx="33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90080" y="4381560"/>
              <a:ext cx="4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52320" y="4381560"/>
              <a:ext cx="14400" cy="20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001240" y="6400800"/>
              <a:ext cx="495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98400" y="4762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59920" y="5905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001240" y="5732280"/>
              <a:ext cx="0" cy="66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H="1">
            <a:off x="2895480" y="48769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80988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4267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324-C05E-4D9C-9AC1-2D599FCA9B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88280" y="1905120"/>
            <a:ext cx="67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υντονισμό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παραμέτρων με την μέθοδο ενό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τέταρτου εύρους απόκριση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5800" y="2743200"/>
            <a:ext cx="7619760" cy="703800"/>
            <a:chOff x="685800" y="2743200"/>
            <a:chExt cx="7619760" cy="703800"/>
          </a:xfrm>
        </p:grpSpPr>
        <p:sp>
          <p:nvSpPr>
            <p:cNvPr id="150" name=""/>
            <p:cNvSpPr/>
            <p:nvPr/>
          </p:nvSpPr>
          <p:spPr>
            <a:xfrm>
              <a:off x="685800" y="2743200"/>
              <a:ext cx="761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Ρύθμιση κέρδους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με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</a:rPr>
                <a:t>έτσι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ώστε η απόκριση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</a:rPr>
                <a:t>του κλειστού συστήματος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ε βηματική είσοδο να είναι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>
            <a:off x="2551680" y="2743200"/>
            <a:ext cx="1244160" cy="500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51680" y="2743200"/>
                      <a:ext cx="1244160" cy="50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4106880" y="2743200"/>
            <a:ext cx="155484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06880" y="2743200"/>
                      <a:ext cx="155484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5" name=""/>
          <p:cNvGrpSpPr/>
          <p:nvPr/>
        </p:nvGrpSpPr>
        <p:grpSpPr>
          <a:xfrm>
            <a:off x="4572000" y="3504960"/>
            <a:ext cx="4114800" cy="2514600"/>
            <a:chOff x="4572000" y="3504960"/>
            <a:chExt cx="4114800" cy="2514600"/>
          </a:xfrm>
        </p:grpSpPr>
        <p:sp>
          <p:nvSpPr>
            <p:cNvPr id="156" name=""/>
            <p:cNvSpPr/>
            <p:nvPr/>
          </p:nvSpPr>
          <p:spPr>
            <a:xfrm flipH="1" flipV="1">
              <a:off x="5050080" y="3504960"/>
              <a:ext cx="1512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65560" y="3886560"/>
              <a:ext cx="2881800" cy="1976760"/>
            </a:xfrm>
            <a:custGeom>
              <a:avLst/>
              <a:gdLst/>
              <a:ahLst/>
              <a:rect l="l" t="t" r="r" b="b"/>
              <a:pathLst>
                <a:path w="1392" h="1216">
                  <a:moveTo>
                    <a:pt x="0" y="1216"/>
                  </a:moveTo>
                  <a:cubicBezTo>
                    <a:pt x="164" y="672"/>
                    <a:pt x="328" y="128"/>
                    <a:pt x="432" y="64"/>
                  </a:cubicBezTo>
                  <a:cubicBezTo>
                    <a:pt x="536" y="0"/>
                    <a:pt x="560" y="768"/>
                    <a:pt x="624" y="832"/>
                  </a:cubicBezTo>
                  <a:cubicBezTo>
                    <a:pt x="688" y="896"/>
                    <a:pt x="752" y="448"/>
                    <a:pt x="816" y="448"/>
                  </a:cubicBezTo>
                  <a:cubicBezTo>
                    <a:pt x="880" y="448"/>
                    <a:pt x="952" y="792"/>
                    <a:pt x="1008" y="832"/>
                  </a:cubicBezTo>
                  <a:cubicBezTo>
                    <a:pt x="1064" y="872"/>
                    <a:pt x="1104" y="688"/>
                    <a:pt x="1152" y="688"/>
                  </a:cubicBezTo>
                  <a:cubicBezTo>
                    <a:pt x="1200" y="688"/>
                    <a:pt x="1256" y="816"/>
                    <a:pt x="1296" y="832"/>
                  </a:cubicBezTo>
                  <a:cubicBezTo>
                    <a:pt x="1336" y="848"/>
                    <a:pt x="1376" y="792"/>
                    <a:pt x="1392" y="7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60080" y="5239800"/>
              <a:ext cx="2186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55040" y="4614840"/>
              <a:ext cx="992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59440" y="3990600"/>
              <a:ext cx="795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56880" y="3990600"/>
              <a:ext cx="0" cy="12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51400" y="4614840"/>
              <a:ext cx="0" cy="6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57600" y="4146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52480" y="469260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/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08720" y="5321520"/>
              <a:ext cx="69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30120" y="542628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0" y="584316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72000" y="52516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43840" y="52516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3872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72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3886200"/>
            <a:ext cx="4190760" cy="1967040"/>
            <a:chOff x="304920" y="3886200"/>
            <a:chExt cx="4190760" cy="1967040"/>
          </a:xfrm>
        </p:grpSpPr>
        <p:sp>
          <p:nvSpPr>
            <p:cNvPr id="174" name=""/>
            <p:cNvSpPr/>
            <p:nvPr/>
          </p:nvSpPr>
          <p:spPr>
            <a:xfrm>
              <a:off x="304920" y="3886200"/>
              <a:ext cx="106668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I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ID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5" name=""/>
            <p:cNvGraphicFramePr/>
            <p:nvPr/>
          </p:nvGraphicFramePr>
          <p:xfrm>
            <a:off x="990720" y="3933720"/>
            <a:ext cx="1218960" cy="45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3933720"/>
                      <a:ext cx="1218960" cy="45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" name=""/>
            <p:cNvGraphicFramePr/>
            <p:nvPr/>
          </p:nvGraphicFramePr>
          <p:xfrm>
            <a:off x="1066680" y="4572000"/>
            <a:ext cx="2082960" cy="45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66680" y="4572000"/>
                      <a:ext cx="20829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1143000" y="5105520"/>
            <a:ext cx="3352680" cy="74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43000" y="5105520"/>
                      <a:ext cx="3352680" cy="74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766-8A43-479A-B23A-036FF6C2F3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21840" y="1905120"/>
            <a:ext cx="45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ΥΛΟΠΟΙΗΣ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ΕΛΕΓΚ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72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116240" y="3962520"/>
            <a:ext cx="4982400" cy="2895120"/>
            <a:chOff x="4116240" y="3962520"/>
            <a:chExt cx="4982400" cy="2895120"/>
          </a:xfrm>
        </p:grpSpPr>
        <p:sp>
          <p:nvSpPr>
            <p:cNvPr id="192" name=""/>
            <p:cNvSpPr/>
            <p:nvPr/>
          </p:nvSpPr>
          <p:spPr>
            <a:xfrm flipV="1">
              <a:off x="4563000" y="4031280"/>
              <a:ext cx="0" cy="28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42600" y="5547960"/>
              <a:ext cx="46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691160" y="4651560"/>
              <a:ext cx="2051640" cy="1792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43160" y="4651920"/>
              <a:ext cx="1281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43160" y="4651920"/>
              <a:ext cx="0" cy="9651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16240" y="3962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716680" y="551628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30520" y="5134680"/>
              <a:ext cx="19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422760" y="4927320"/>
              <a:ext cx="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23480" y="4858920"/>
              <a:ext cx="147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</a:rPr>
                <a:t>+-2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b/d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706440" y="4040280"/>
              <a:ext cx="878400" cy="62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3" name=""/>
            <p:cNvGraphicFramePr/>
            <p:nvPr/>
          </p:nvGraphicFramePr>
          <p:xfrm>
            <a:off x="7760880" y="4823280"/>
            <a:ext cx="658800" cy="44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60880" y="4823280"/>
                      <a:ext cx="658800" cy="4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"/>
            <p:cNvGraphicFramePr/>
            <p:nvPr/>
          </p:nvGraphicFramePr>
          <p:xfrm>
            <a:off x="7584840" y="4079880"/>
            <a:ext cx="351360" cy="26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84840" y="4079880"/>
                      <a:ext cx="35136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6625800" y="5644800"/>
            <a:ext cx="380520" cy="442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25800" y="5644800"/>
                      <a:ext cx="380520" cy="4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"/>
            <p:cNvSpPr/>
            <p:nvPr/>
          </p:nvSpPr>
          <p:spPr>
            <a:xfrm>
              <a:off x="7673040" y="4666680"/>
              <a:ext cx="17532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28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867280" y="1905120"/>
          <a:ext cx="2743200" cy="75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1905120"/>
                    <a:ext cx="27432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380880" y="2438280"/>
            <a:ext cx="6782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2-ΜΗΔΕΝΙΚΑ και 1-ΠΟΛΟΣ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ΛΛΑΓΗ ΣΤΟΝ ΤΡΟΠΟ ΥΛΟΠΟΙΗΣΗΣ Τ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Ρ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4920" y="3200400"/>
          <a:ext cx="5181480" cy="78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3200400"/>
                    <a:ext cx="51814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457200" y="4038480"/>
            <a:ext cx="2057400" cy="380880"/>
            <a:chOff x="457200" y="4038480"/>
            <a:chExt cx="2057400" cy="380880"/>
          </a:xfrm>
        </p:grpSpPr>
        <p:graphicFrame>
          <p:nvGraphicFramePr>
            <p:cNvPr id="218" name=""/>
            <p:cNvGraphicFramePr/>
            <p:nvPr/>
          </p:nvGraphicFramePr>
          <p:xfrm>
            <a:off x="1143000" y="4113000"/>
            <a:ext cx="1371600" cy="306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143000" y="4113000"/>
                      <a:ext cx="1371600" cy="30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457200" y="40384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όπο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F55-4D82-4D52-A500-9C5CB93E56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8200" y="1832040"/>
            <a:ext cx="41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Βελτιστοποίηση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D-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λεγκτ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0040" y="2400480"/>
            <a:ext cx="76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-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έθοδος παρέχει όρια εντός των οποίων βρίσκονται οι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ράμετρο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6520" y="2781360"/>
            <a:ext cx="64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Θέσπιση κριτηρίων για βελτιστοποιημένη επιλογή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D-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ραμέτρ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9960" y="32148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ιοθέτησ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l Error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243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198960" y="3135240"/>
          <a:ext cx="90000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8960" y="3135240"/>
                    <a:ext cx="900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257720" y="3138480"/>
          <a:ext cx="144792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7720" y="3138480"/>
                    <a:ext cx="14479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4569120" y="4038480"/>
            <a:ext cx="46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ίθεται θέμα με αποκρίσεις υποαποσβενυμέν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στημάτων, όπου προστίθενται τα εμβαδ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724280" y="4724280"/>
          <a:ext cx="132084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132084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248520" y="4691160"/>
          <a:ext cx="1520640" cy="56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8520" y="4691160"/>
                    <a:ext cx="15206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632480" y="5524560"/>
            <a:ext cx="27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εν παρέχεται εγγύηση ότ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715000" y="5867280"/>
          <a:ext cx="1295280" cy="50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5000" y="5867280"/>
                    <a:ext cx="12952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4" name="" descr=""/>
          <p:cNvPicPr/>
          <p:nvPr/>
        </p:nvPicPr>
        <p:blipFill>
          <a:blip r:embed="rId11"/>
          <a:stretch/>
        </p:blipFill>
        <p:spPr>
          <a:xfrm>
            <a:off x="50760" y="3614760"/>
            <a:ext cx="459756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3F0-1091-4DEF-BD52-EB95FBBC14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7360" y="1952640"/>
            <a:ext cx="33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ιοθέτησ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uare Error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105440" y="1828800"/>
          <a:ext cx="100008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5440" y="1828800"/>
                    <a:ext cx="10000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5049720" y="1828800"/>
          <a:ext cx="155916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9720" y="1828800"/>
                    <a:ext cx="15591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837000" y="2489040"/>
            <a:ext cx="40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ιοθέτησ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l Absolute Error IAE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689360" y="2367000"/>
          <a:ext cx="100008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9360" y="2367000"/>
                    <a:ext cx="10000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802480" y="2395440"/>
          <a:ext cx="1558800" cy="51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02480" y="2395440"/>
                    <a:ext cx="155880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835920" y="2989440"/>
            <a:ext cx="46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ιοθέτησ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tegral Time Varying AE ITVAE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5376960" y="2867040"/>
          <a:ext cx="1100160" cy="52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76960" y="2867040"/>
                    <a:ext cx="110016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6585120" y="2895480"/>
          <a:ext cx="1649160" cy="51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5120" y="2895480"/>
                    <a:ext cx="164916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063440" y="3362400"/>
            <a:ext cx="75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ο κόστος προσμετράται με ιδιαίτερη βαρύτητα το σφάλμα σε μεταγενέστερε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χρονικές στιγμές          (σε σχέση μ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E)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απόκριση του συστήματο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γκλίνει ταχύτερα στην μόνιμη κατάσταση σε σχέση μ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752560" y="3605040"/>
          <a:ext cx="600120" cy="405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52560" y="3605040"/>
                    <a:ext cx="60012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2619360" y="3886200"/>
          <a:ext cx="3524400" cy="476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19360" y="3886200"/>
                    <a:ext cx="35244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1" name="" descr=""/>
          <p:cNvPicPr/>
          <p:nvPr/>
        </p:nvPicPr>
        <p:blipFill>
          <a:blip r:embed="rId17"/>
          <a:stretch/>
        </p:blipFill>
        <p:spPr>
          <a:xfrm>
            <a:off x="2895480" y="4629240"/>
            <a:ext cx="4876920" cy="245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BABF-5A17-4AC0-A79E-7426386F12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21840" y="1905120"/>
            <a:ext cx="45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ΥΛΟΠΟΙΗΣ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ΕΛΕΓΚ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72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28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81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514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συστήματα που συναντώνται σε πετροχημικές διεργασίες η απόκριση σε βηματική διέγερση έχει τη μορφή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352680" y="3885840"/>
            <a:ext cx="4724280" cy="2456280"/>
            <a:chOff x="3352680" y="3885840"/>
            <a:chExt cx="4724280" cy="2456280"/>
          </a:xfrm>
        </p:grpSpPr>
        <p:sp>
          <p:nvSpPr>
            <p:cNvPr id="286" name=""/>
            <p:cNvSpPr/>
            <p:nvPr/>
          </p:nvSpPr>
          <p:spPr>
            <a:xfrm flipV="1">
              <a:off x="4582440" y="388584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88040" y="5790960"/>
              <a:ext cx="36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4160" y="4687560"/>
              <a:ext cx="2621160" cy="1103040"/>
            </a:xfrm>
            <a:custGeom>
              <a:avLst/>
              <a:gdLst/>
              <a:ahLst/>
              <a:rect l="l" t="t" r="r" b="b"/>
              <a:pathLst>
                <a:path w="1944" h="695">
                  <a:moveTo>
                    <a:pt x="0" y="695"/>
                  </a:moveTo>
                  <a:cubicBezTo>
                    <a:pt x="101" y="612"/>
                    <a:pt x="317" y="308"/>
                    <a:pt x="608" y="197"/>
                  </a:cubicBezTo>
                  <a:cubicBezTo>
                    <a:pt x="899" y="86"/>
                    <a:pt x="1544" y="54"/>
                    <a:pt x="1744" y="27"/>
                  </a:cubicBezTo>
                  <a:cubicBezTo>
                    <a:pt x="1944" y="0"/>
                    <a:pt x="1795" y="33"/>
                    <a:pt x="1808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82440" y="4647960"/>
              <a:ext cx="323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17640" y="5181480"/>
              <a:ext cx="1359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76640" y="518148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29400" y="58813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94160" y="579096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82440" y="5943240"/>
              <a:ext cx="71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58960" y="594324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88200" y="5943240"/>
              <a:ext cx="2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9960" y="411444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52680" y="4800240"/>
              <a:ext cx="12308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ss(1-e)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0.6379 K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23920" y="487656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00200" y="3276720"/>
            <a:ext cx="2666520" cy="761760"/>
            <a:chOff x="1600200" y="3276720"/>
            <a:chExt cx="2666520" cy="761760"/>
          </a:xfrm>
        </p:grpSpPr>
        <p:sp>
          <p:nvSpPr>
            <p:cNvPr id="301" name=""/>
            <p:cNvSpPr/>
            <p:nvPr/>
          </p:nvSpPr>
          <p:spPr>
            <a:xfrm>
              <a:off x="1600200" y="3611880"/>
              <a:ext cx="71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11200" y="3276720"/>
              <a:ext cx="1391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33560" y="3611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21956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362320" y="3262320"/>
          <a:ext cx="1218960" cy="7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262320"/>
                    <a:ext cx="12189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38718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962520" y="3200400"/>
          <a:ext cx="2438280" cy="4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200400"/>
                    <a:ext cx="24382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42624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85800" y="3228840"/>
          <a:ext cx="12193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228840"/>
                    <a:ext cx="12193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2DB-1892-4545-BA6B-C5216EF430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21840" y="1905120"/>
            <a:ext cx="45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ΥΛΟΠΟΙΗΣ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ΕΛΕΓΚ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72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28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81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292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590920"/>
            <a:ext cx="5714640" cy="3428280"/>
            <a:chOff x="1371600" y="2590920"/>
            <a:chExt cx="5714640" cy="3428280"/>
          </a:xfrm>
        </p:grpSpPr>
        <p:sp>
          <p:nvSpPr>
            <p:cNvPr id="327" name=""/>
            <p:cNvSpPr/>
            <p:nvPr/>
          </p:nvSpPr>
          <p:spPr>
            <a:xfrm flipV="1">
              <a:off x="2409840" y="2590920"/>
              <a:ext cx="0" cy="32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17360" y="5529240"/>
              <a:ext cx="516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09840" y="3752640"/>
              <a:ext cx="4540320" cy="1776600"/>
            </a:xfrm>
            <a:custGeom>
              <a:avLst/>
              <a:gdLst/>
              <a:ahLst/>
              <a:rect l="l" t="t" r="r" b="b"/>
              <a:pathLst>
                <a:path w="2656" h="871">
                  <a:moveTo>
                    <a:pt x="0" y="871"/>
                  </a:moveTo>
                  <a:cubicBezTo>
                    <a:pt x="115" y="848"/>
                    <a:pt x="498" y="817"/>
                    <a:pt x="690" y="732"/>
                  </a:cubicBezTo>
                  <a:cubicBezTo>
                    <a:pt x="882" y="647"/>
                    <a:pt x="980" y="471"/>
                    <a:pt x="1153" y="359"/>
                  </a:cubicBezTo>
                  <a:cubicBezTo>
                    <a:pt x="1326" y="247"/>
                    <a:pt x="1501" y="116"/>
                    <a:pt x="1729" y="58"/>
                  </a:cubicBezTo>
                  <a:cubicBezTo>
                    <a:pt x="1957" y="0"/>
                    <a:pt x="2392" y="18"/>
                    <a:pt x="2524" y="10"/>
                  </a:cubicBezTo>
                  <a:cubicBezTo>
                    <a:pt x="2656" y="2"/>
                    <a:pt x="2524" y="10"/>
                    <a:pt x="2524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flipV="1">
              <a:off x="2409480" y="3766680"/>
              <a:ext cx="4419000" cy="165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902320" y="2982600"/>
              <a:ext cx="2953800" cy="30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409840" y="4549680"/>
              <a:ext cx="1886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96600" y="4549680"/>
              <a:ext cx="0" cy="979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22760" y="5138640"/>
              <a:ext cx="0" cy="390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91200" y="5236200"/>
              <a:ext cx="114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22760" y="5236200"/>
              <a:ext cx="57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84680" y="4667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998160" y="49806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39240" y="341604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37280"/>
              <a:ext cx="98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ss(1-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5DC-E3A8-46B2-8E01-CC6351FFE1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1828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έθοδο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pez-Murril (1967)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για Υπολογισμό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Παραμέτρ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72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28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124080" y="2209680"/>
          <a:ext cx="190512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209680"/>
                    <a:ext cx="19051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457200" y="3124080"/>
            <a:ext cx="3580920" cy="3192480"/>
            <a:chOff x="457200" y="3124080"/>
            <a:chExt cx="3580920" cy="3192480"/>
          </a:xfrm>
        </p:grpSpPr>
        <p:grpSp>
          <p:nvGrpSpPr>
            <p:cNvPr id="356" name=""/>
            <p:cNvGrpSpPr/>
            <p:nvPr/>
          </p:nvGrpSpPr>
          <p:grpSpPr>
            <a:xfrm>
              <a:off x="463320" y="3127320"/>
              <a:ext cx="3567240" cy="3185640"/>
              <a:chOff x="463320" y="3127320"/>
              <a:chExt cx="3567240" cy="318564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463320" y="3127320"/>
                <a:ext cx="537480" cy="455040"/>
                <a:chOff x="463320" y="3127320"/>
                <a:chExt cx="537480" cy="4550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555120" y="3127320"/>
                  <a:ext cx="35424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63320" y="3127320"/>
                  <a:ext cx="53748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001160" y="3127320"/>
                <a:ext cx="1009440" cy="455040"/>
                <a:chOff x="1001160" y="3127320"/>
                <a:chExt cx="1009440" cy="4550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92960" y="312732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001160" y="312732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2011320" y="3127320"/>
                <a:ext cx="1009440" cy="455040"/>
                <a:chOff x="2011320" y="3127320"/>
                <a:chExt cx="1009440" cy="4550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103120" y="312732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A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011320" y="312732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3021120" y="3127320"/>
                <a:ext cx="1009440" cy="455040"/>
                <a:chOff x="3021120" y="3127320"/>
                <a:chExt cx="1009440" cy="4550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112560" y="3127320"/>
                  <a:ext cx="82620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TA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3021120" y="312732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463320" y="3582360"/>
                <a:ext cx="537480" cy="455040"/>
                <a:chOff x="463320" y="3582360"/>
                <a:chExt cx="537480" cy="45504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555120" y="3582360"/>
                  <a:ext cx="35424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α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63320" y="3582360"/>
                  <a:ext cx="53748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1001160" y="3582360"/>
                <a:ext cx="1009440" cy="455040"/>
                <a:chOff x="1001160" y="3582360"/>
                <a:chExt cx="1009440" cy="4550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1092960" y="358236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,49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001160" y="358236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011320" y="3582360"/>
                <a:ext cx="1009440" cy="455040"/>
                <a:chOff x="2011320" y="3582360"/>
                <a:chExt cx="1009440" cy="4550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103120" y="358236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,43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011320" y="358236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021120" y="3582360"/>
                <a:ext cx="1009440" cy="455040"/>
                <a:chOff x="3021120" y="3582360"/>
                <a:chExt cx="1009440" cy="45504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112560" y="3582360"/>
                  <a:ext cx="82620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,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021120" y="358236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63320" y="4037400"/>
                <a:ext cx="537480" cy="455040"/>
                <a:chOff x="463320" y="4037400"/>
                <a:chExt cx="537480" cy="45504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55120" y="4037400"/>
                  <a:ext cx="35424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63320" y="4037400"/>
                  <a:ext cx="53748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1001160" y="4037400"/>
                <a:ext cx="1009440" cy="455040"/>
                <a:chOff x="1001160" y="4037400"/>
                <a:chExt cx="1009440" cy="45504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1092960" y="403740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0,95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001160" y="403740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011320" y="4037400"/>
                <a:ext cx="1009440" cy="455040"/>
                <a:chOff x="2011320" y="4037400"/>
                <a:chExt cx="1009440" cy="4550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103120" y="403740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0,9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011320" y="403740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3021120" y="4037400"/>
                <a:ext cx="1009440" cy="455040"/>
                <a:chOff x="3021120" y="4037400"/>
                <a:chExt cx="1009440" cy="45504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3112560" y="4037400"/>
                  <a:ext cx="82620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0,94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021120" y="403740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463320" y="4492440"/>
                <a:ext cx="537480" cy="455040"/>
                <a:chOff x="463320" y="4492440"/>
                <a:chExt cx="537480" cy="45504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555120" y="4492440"/>
                  <a:ext cx="35424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γ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63320" y="4492440"/>
                  <a:ext cx="53748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1001160" y="4492440"/>
                <a:ext cx="1009440" cy="455040"/>
                <a:chOff x="1001160" y="4492440"/>
                <a:chExt cx="1009440" cy="4550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92960" y="449244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,1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001160" y="449244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2011320" y="4492440"/>
                <a:ext cx="1009440" cy="455040"/>
                <a:chOff x="2011320" y="4492440"/>
                <a:chExt cx="1009440" cy="45504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2103120" y="449244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,87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011320" y="449244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3021120" y="4492440"/>
                <a:ext cx="1009440" cy="455040"/>
                <a:chOff x="3021120" y="4492440"/>
                <a:chExt cx="1009440" cy="4550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3112560" y="4492440"/>
                  <a:ext cx="82620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0,84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021120" y="449244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463320" y="4947480"/>
                <a:ext cx="537480" cy="455040"/>
                <a:chOff x="463320" y="4947480"/>
                <a:chExt cx="537480" cy="45504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555120" y="4947480"/>
                  <a:ext cx="35424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δ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63320" y="4947480"/>
                  <a:ext cx="53748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1001160" y="4947480"/>
                <a:ext cx="1009440" cy="455040"/>
                <a:chOff x="1001160" y="4947480"/>
                <a:chExt cx="1009440" cy="45504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1092960" y="494748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,77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001160" y="494748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2011320" y="4947480"/>
                <a:ext cx="1009440" cy="455040"/>
                <a:chOff x="2011320" y="4947480"/>
                <a:chExt cx="1009440" cy="4550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2103120" y="494748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,7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011320" y="494748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021120" y="4947480"/>
                <a:ext cx="1009440" cy="455040"/>
                <a:chOff x="3021120" y="4947480"/>
                <a:chExt cx="1009440" cy="4550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112560" y="4947480"/>
                  <a:ext cx="82620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,7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021120" y="494748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63320" y="5402880"/>
                <a:ext cx="537480" cy="455040"/>
                <a:chOff x="463320" y="5402880"/>
                <a:chExt cx="537480" cy="4550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55120" y="5402880"/>
                  <a:ext cx="35424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ε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3320" y="5402880"/>
                  <a:ext cx="53748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1001160" y="5402880"/>
                <a:ext cx="1009440" cy="455040"/>
                <a:chOff x="1001160" y="5402880"/>
                <a:chExt cx="1009440" cy="4550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092960" y="540288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,5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001160" y="540288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2011320" y="5402880"/>
                <a:ext cx="1009440" cy="455040"/>
                <a:chOff x="2011320" y="5402880"/>
                <a:chExt cx="1009440" cy="4550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103120" y="540288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,48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011320" y="540288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3021120" y="5402880"/>
                <a:ext cx="1009440" cy="455040"/>
                <a:chOff x="3021120" y="5402880"/>
                <a:chExt cx="1009440" cy="4550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112560" y="5402880"/>
                  <a:ext cx="82620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,38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021120" y="540288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463320" y="5857920"/>
                <a:ext cx="537480" cy="455040"/>
                <a:chOff x="463320" y="5857920"/>
                <a:chExt cx="537480" cy="45504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555120" y="5857920"/>
                  <a:ext cx="35424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ζ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63320" y="5857920"/>
                  <a:ext cx="53748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1001160" y="5857920"/>
                <a:ext cx="1009440" cy="455040"/>
                <a:chOff x="1001160" y="5857920"/>
                <a:chExt cx="1009440" cy="4550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92960" y="585792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,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001160" y="585792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2011320" y="5857920"/>
                <a:ext cx="1009440" cy="455040"/>
                <a:chOff x="2011320" y="5857920"/>
                <a:chExt cx="1009440" cy="45504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2103120" y="585792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,13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011320" y="585792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021120" y="5857920"/>
                <a:ext cx="1009440" cy="455040"/>
                <a:chOff x="3021120" y="5857920"/>
                <a:chExt cx="1009440" cy="45504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112560" y="5857920"/>
                  <a:ext cx="82620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,99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021120" y="585792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1" name=""/>
            <p:cNvSpPr/>
            <p:nvPr/>
          </p:nvSpPr>
          <p:spPr>
            <a:xfrm>
              <a:off x="457200" y="3124080"/>
              <a:ext cx="3580920" cy="319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172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6400800" y="2895480"/>
          <a:ext cx="1371600" cy="7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895480"/>
                    <a:ext cx="137160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4362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6781680" y="3733920"/>
          <a:ext cx="762120" cy="71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3733920"/>
                    <a:ext cx="7621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6629400" y="4572000"/>
          <a:ext cx="114300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4572000"/>
                    <a:ext cx="11430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6629400" y="5410080"/>
          <a:ext cx="1447920" cy="55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5410080"/>
                    <a:ext cx="144792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DCF-C7FD-4713-9391-EB6B7482EA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1:14:52Z</dcterms:created>
  <dc:creator>WIN2K</dc:creator>
  <dc:description/>
  <dc:language>en-US</dc:language>
  <cp:lastModifiedBy>WinUser</cp:lastModifiedBy>
  <dcterms:modified xsi:type="dcterms:W3CDTF">2004-04-26T08:09:0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4050044</vt:r8>
  </property>
  <property fmtid="{D5CDD505-2E9C-101B-9397-08002B2CF9AE}" pid="3" name="_AuthorEmail">
    <vt:lpwstr>tzes@ee.upatras.gr</vt:lpwstr>
  </property>
  <property fmtid="{D5CDD505-2E9C-101B-9397-08002B2CF9AE}" pid="4" name="_AuthorEmailDisplayName">
    <vt:lpwstr>Tzes Anthony</vt:lpwstr>
  </property>
  <property fmtid="{D5CDD505-2E9C-101B-9397-08002B2CF9AE}" pid="5" name="_EmailSubject">
    <vt:lpwstr>Power_point_presentations_4_SAE2</vt:lpwstr>
  </property>
</Properties>
</file>