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11F-24BF-4485-9EC3-FF863A26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90D-DC0A-48FE-8E64-CA8D539C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B01-F0A3-4665-B962-8EC34E1E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D3C-2C88-49A9-947A-0C2F5671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E634-3D26-4939-9437-FE5D308E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A8E5-B3F4-4367-9511-1C584AF7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3818-77EC-45E0-ABC2-2DBC81EE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7A66-D7DA-4106-965B-B96A6B22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886F-A2A1-472B-B384-57EB50C1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84B6-3854-452E-A18F-3B5116CA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FE23-1389-4A98-A2F0-DBBD462D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7D3-59AB-42C2-8AA8-CDEADA23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8E74-1C35-4F3F-BA51-67D16B5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A1E-7B11-4E22-B5F3-2E89FBF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FFDC-2B78-483E-B1B0-DE2D528D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EA46-9B08-44E0-B6AA-C6DA29AF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E981-0FAC-4FEE-B73B-B4065D68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1B7-484D-4891-85A3-90D9A858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7B2-CCF9-4143-95A4-BCBCFACE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57B-BF4C-493A-BC84-111E3938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96C-3F3B-4BBF-A1DA-BB2553DE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D6E-899F-486D-B870-AAF7E5C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362-784B-4A4A-A9EE-AA9FD17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ED8-D914-4904-ABE9-0C32BEEF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A6E0-5022-4E88-97AC-360A3030C7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2AB5-0083-4378-8204-5558E87031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6600" y="175248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D-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ΝΤΙΣΤΑΘΜΙΤ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Φιλοσοφία Σχεδίασης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0600" y="26668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στάθμιση κέρδ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4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33920" y="2362320"/>
            <a:ext cx="5029200" cy="43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0AB-A94A-4EFD-B4BB-2E5BE57B3B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elida18_3" descr=""/>
          <p:cNvPicPr/>
          <p:nvPr/>
        </p:nvPicPr>
        <p:blipFill>
          <a:blip r:embed="rId1"/>
          <a:stretch/>
        </p:blipFill>
        <p:spPr>
          <a:xfrm>
            <a:off x="838080" y="1866960"/>
            <a:ext cx="7162920" cy="3162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680" y="5105520"/>
            <a:ext cx="1059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θώς το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ξάνεται μικραίνει ο χρόνος απόκρι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αρτώνται από το εύρος λειτουργίας του συστήματος το οποίο εξαρτάται απ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ενδεχόμενη μείωση του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δηγεί σε μείωση του συντελεστή απόσβεσης κ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ύξηση υπερυψώσεω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100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4200" y="5362560"/>
          <a:ext cx="21600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5362560"/>
                    <a:ext cx="216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66800" y="5372280"/>
          <a:ext cx="366840" cy="40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6800" y="5372280"/>
                    <a:ext cx="366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4337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542440" y="5391000"/>
          <a:ext cx="463320" cy="36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2440" y="5391000"/>
                    <a:ext cx="4633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08F-AF8D-40D2-A969-F00E2F8C1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1459080"/>
            <a:ext cx="6781680" cy="494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E47-02BA-40A5-ACB8-9C3369D92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1840" y="2095560"/>
            <a:ext cx="72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την κατάλληλη επιλογή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σταθμιστή μπορούμε ν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) Διατηρήσου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παράλληλα να αυξήσουμε τ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553080" y="2400480"/>
          <a:ext cx="45720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400480"/>
                    <a:ext cx="4572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295280" y="2808360"/>
            <a:ext cx="6553440" cy="2678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6760" y="5676840"/>
            <a:ext cx="58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δηγούμαστε σε ταχύτερη απόκριση με σταθερή υπερύψω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D86-588E-469F-A780-53AF913046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0760" y="2095560"/>
            <a:ext cx="54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) Διατηρή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αυξήσου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8120" y="2114640"/>
          <a:ext cx="45720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114640"/>
                    <a:ext cx="4572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98560" y="5676840"/>
            <a:ext cx="49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δηγούμαστε σε απόκριση με μείωση υπερύψω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632484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B98-1F8A-4CDC-883C-31A1FF328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2895480"/>
          <a:ext cx="53352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5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52360" y="1981080"/>
            <a:ext cx="889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ισταθμιστής προσθέτει θετική φάση γύρω από την περιοχή συχνοτήτων του μηδενικού-πόλου τ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+Για την αύξηση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M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 πόλος και το μηδενικό του ελεγκτή τοποθετούντα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οντά στη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υπικά για 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-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λεγκτή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81280" y="3124080"/>
          <a:ext cx="784440" cy="66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124080"/>
                    <a:ext cx="78444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09480" y="3753000"/>
          <a:ext cx="144792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53000"/>
                    <a:ext cx="14479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346480" y="384804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ώ το μηδενικ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356000" y="3886200"/>
          <a:ext cx="82548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3886200"/>
                    <a:ext cx="82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37C-5769-4165-B40A-AF16A0DD55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1640" y="2057400"/>
            <a:ext cx="74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όση είναι η μέγιστη γωνία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ου μπορεί να προσθέσει ένα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726000" y="2058840"/>
          <a:ext cx="46512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6000" y="2058840"/>
                    <a:ext cx="465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737280" y="247644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                        Τότ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179880" y="2438280"/>
          <a:ext cx="116352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9880" y="2438280"/>
                    <a:ext cx="116352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200240" y="2405160"/>
          <a:ext cx="137160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0240" y="2405160"/>
                    <a:ext cx="1371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862160" y="2476440"/>
            <a:ext cx="39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θώς το μηδενικό κινείται πλησίον τ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όλου            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630840" y="2681280"/>
          <a:ext cx="103680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30840" y="2681280"/>
                    <a:ext cx="1036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586480" y="2786040"/>
          <a:ext cx="677880" cy="29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6480" y="2786040"/>
                    <a:ext cx="67788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61440" y="316224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ήθως 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02560" y="3090960"/>
          <a:ext cx="1057320" cy="39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02560" y="3090960"/>
                    <a:ext cx="1057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228600" y="3732120"/>
            <a:ext cx="4114800" cy="2511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>
            <a:off x="4497480" y="3733920"/>
            <a:ext cx="464652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954-E7BD-4161-B2CE-7E2B332781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1600" y="2101680"/>
            <a:ext cx="84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απομάκρυνση του μηδενικού από τον πόλο                                     μπορεί να επηρεάσε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ημαντικά το διάγραμμα μέτρου στις χαμηλές συχνότη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933800" y="2100240"/>
          <a:ext cx="2076480" cy="3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3800" y="2100240"/>
                    <a:ext cx="20764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143000" y="2666880"/>
            <a:ext cx="6858000" cy="364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41E-C0F9-447B-B597-8C58855318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1:01:22Z</dcterms:created>
  <dc:creator>WIN2K</dc:creator>
  <dc:description/>
  <dc:language>en-US</dc:language>
  <cp:lastModifiedBy>WinUser</cp:lastModifiedBy>
  <dcterms:modified xsi:type="dcterms:W3CDTF">2004-04-26T08:01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6923166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