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5BF-85F8-40DB-A77C-B0C43A63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226-732B-411B-BEA9-9D5434D6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A9A-9469-43C2-9D97-358DEF37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C4A-61E6-4C45-8E35-7CFA36DE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DAB7-E1E6-41ED-8E8C-01BE375F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4385-E106-49A9-A25E-B453EF15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5BBF-7174-44F1-9EC6-FD8C9B40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DFC7-BC09-4100-9206-69CF0536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217A-CB70-4C4A-B66B-1EBBB402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1002-ED48-486B-9518-01B430AE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7365-D003-404B-BFE7-10C57A92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EBD-D3F1-4A00-A94B-3CED18E5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E441-ED01-4F14-8CF2-14656A2F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14D7-D658-48E9-9C48-CE0DDC2B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77C6-8BE1-471D-AD51-967A090B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8E4A-4D19-49E1-8735-108EED5C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FB76-3B7E-4D9B-B3BD-396FEA85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B76-BE49-4C5A-AC3E-4A430E10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2F6-05B8-40E1-BA4E-8700A37B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42A-121C-4BB0-9A7E-CC11E5DD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FF8-3AA4-4A8F-AA1C-00787677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D09-B6ED-439D-9567-B33E967F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DFB-882A-4B54-98AB-6351E32F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AA4-1127-4A82-9AB7-B782DD33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F4A3-257D-4087-B9DC-1D22E4FFC98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5548-325B-4AB9-9809-7C4516851C2B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61200" y="1905120"/>
            <a:ext cx="362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ντισταθμιστ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rtional Integral Deriva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09720" y="2743200"/>
            <a:ext cx="5505480" cy="25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3429000" y="5334120"/>
          <a:ext cx="1981080" cy="55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5334120"/>
                    <a:ext cx="19810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127880" y="60199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τονισμός (3) παραμέτρ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A6E-5405-4E89-8835-64F2D0F24F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2640" y="1981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υπικός Γ.Τ.Ρ. για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-m=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080" y="57150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-m=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άρχουν 3 ασύμπτωτο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114800" y="5715000"/>
          <a:ext cx="144288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715000"/>
                    <a:ext cx="14428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43243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724280" y="6234120"/>
          <a:ext cx="7621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6234120"/>
                    <a:ext cx="7621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5395680" y="62625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791320" y="6095880"/>
          <a:ext cx="9144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6095880"/>
                    <a:ext cx="9144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1371600" y="1752480"/>
            <a:ext cx="6324480" cy="435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FB7-B24F-46F7-B25D-F1A511D86F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02680" y="1981080"/>
            <a:ext cx="69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ντονιμό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, PI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D –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ελεγκτών μ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-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έθοδ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01080" y="2525760"/>
            <a:ext cx="77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575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3880" y="2495520"/>
          <a:ext cx="221004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495520"/>
                    <a:ext cx="22100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0194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519200" y="3166920"/>
          <a:ext cx="253368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9200" y="3166920"/>
                    <a:ext cx="2533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4309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66680" y="3733920"/>
          <a:ext cx="1176480" cy="87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733920"/>
                    <a:ext cx="11764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2516040" y="388620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νήθως παίρν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09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800600" y="3733920"/>
          <a:ext cx="1100160" cy="82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733920"/>
                    <a:ext cx="110016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40575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981080" y="4648320"/>
          <a:ext cx="2210040" cy="55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4648320"/>
                    <a:ext cx="22100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2133720" y="5105520"/>
          <a:ext cx="1066680" cy="82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5105520"/>
                    <a:ext cx="10666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43052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133720" y="5715000"/>
          <a:ext cx="1143000" cy="83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3720" y="5715000"/>
                    <a:ext cx="1143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9F0-AE24-4EBA-BDE8-23455CF2CB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91960" y="1828800"/>
            <a:ext cx="43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ΕΙΡΑΜΑΤΙΚΗ ΔΙΑΔΙΚΑΣ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98920" y="2324160"/>
            <a:ext cx="48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αγνώρισ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(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σω ημιτονοειδών διεγέρσ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633680" y="2666880"/>
            <a:ext cx="5867280" cy="16621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94600" y="4381560"/>
            <a:ext cx="43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ολογισμός             από Γ.Τ.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πιβεβαίωση             από βηματική διέγερ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343240" y="4390920"/>
          <a:ext cx="761760" cy="3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3240" y="4390920"/>
                    <a:ext cx="7617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4632480" y="6058080"/>
            <a:ext cx="39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ολογισμός      από κρίσιμη απόσβε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324160" y="4653000"/>
          <a:ext cx="762120" cy="3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24160" y="4653000"/>
                    <a:ext cx="7621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6019920" y="6048360"/>
          <a:ext cx="317520" cy="38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6048360"/>
                    <a:ext cx="317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457200" y="4952880"/>
            <a:ext cx="4114800" cy="13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2A0-31EB-4200-A065-06E8F5D98E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29320" y="21718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Υλοποίηση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όρ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9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2590920"/>
          <a:ext cx="144324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90920"/>
                    <a:ext cx="144324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881080" y="27050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657600" y="2666880"/>
          <a:ext cx="1117440" cy="4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666880"/>
                    <a:ext cx="11174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92896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elida22block1" descr=""/>
          <p:cNvPicPr/>
          <p:nvPr/>
        </p:nvPicPr>
        <p:blipFill>
          <a:blip r:embed="rId5"/>
          <a:stretch/>
        </p:blipFill>
        <p:spPr>
          <a:xfrm>
            <a:off x="2562120" y="3052800"/>
            <a:ext cx="4038840" cy="2587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73920" y="58294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#ΜΗΔΕΝΙΚΩΝ=#ΠΟΛΩΝ!!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D1F-BA66-4285-ADEE-49CD9B2CED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37600" y="191916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ιάγραμμα μέτρου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όρ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9320" y="3429000"/>
            <a:ext cx="406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ε περίπτωση εισαγωγής «θορύβου»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«υψηλές συχνότητες», 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ρος ενισχύε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ην επίδρασή τ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91120" y="1814400"/>
            <a:ext cx="4647960" cy="302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3520" y="4572000"/>
            <a:ext cx="3276360" cy="1619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480560" y="49528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.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52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181480" y="4991040"/>
          <a:ext cx="1524240" cy="3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991040"/>
                    <a:ext cx="15242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73392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81480" y="5372280"/>
          <a:ext cx="2286000" cy="46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5372280"/>
                    <a:ext cx="228600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481640" y="5791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 γι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74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522760" y="5781600"/>
          <a:ext cx="1668600" cy="35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22760" y="5781600"/>
                    <a:ext cx="16686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7300800" y="57769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848720" y="5800680"/>
          <a:ext cx="67932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48720" y="5800680"/>
                    <a:ext cx="679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191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0" y="6248520"/>
          <a:ext cx="1371600" cy="393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6248520"/>
                    <a:ext cx="13716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883840" y="6218280"/>
            <a:ext cx="6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!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F5D-FD7A-4348-8802-0622BD5E25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29320" y="2171880"/>
            <a:ext cx="19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Υλοποίηση 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όρ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9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2896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1280" y="2057400"/>
            <a:ext cx="39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άρχει πρόβλημα με την ολοκλήρωσ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θορύβου με μη μηδενικό μέσο όρ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3800" y="5835600"/>
            <a:ext cx="41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ην αποφυγή της ολοκλήρωσης γίνετα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tting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ε τακτά χρονικά διαστήματ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33920" y="2666880"/>
            <a:ext cx="2986200" cy="1014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3200400" cy="254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1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5562720"/>
          <a:ext cx="1295640" cy="53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5562720"/>
                    <a:ext cx="12956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4572000" y="3809880"/>
            <a:ext cx="3886200" cy="188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DD9-8628-4C23-BB2C-4EE0D2EF39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03480" y="182880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υντονισμό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D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αραμέτρ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505480" cy="2133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385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9480" y="4267080"/>
          <a:ext cx="4114800" cy="66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267080"/>
                    <a:ext cx="41148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608040" y="4876920"/>
            <a:ext cx="356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θοδο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iegler-Nich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υξήστε το       ώστε το σύστημ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να οδηγηθεί σε οριακή αστάθει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98560" y="5207040"/>
          <a:ext cx="1143000" cy="31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98560" y="5207040"/>
                    <a:ext cx="11430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457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027160" y="5424480"/>
          <a:ext cx="381240" cy="38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27160" y="542448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802400" y="5958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486400" y="5334120"/>
          <a:ext cx="2057400" cy="1398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6400" y="5334120"/>
                    <a:ext cx="205740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961880" y="4648320"/>
            <a:ext cx="32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(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 τουλάχιστον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l-GR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η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τάξης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952880" y="5105520"/>
          <a:ext cx="914400" cy="27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52880" y="5105520"/>
                    <a:ext cx="914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156000" y="50673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#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όλων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#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ηδενικώ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9F8-22B3-4C4F-9548-891C677FED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95920" y="2019240"/>
            <a:ext cx="64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υπική απόκριση συστήματος                  με μεταβαλλόμενο κέρδ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114800" y="2062080"/>
          <a:ext cx="9144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062080"/>
                    <a:ext cx="914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270800" y="5829480"/>
            <a:ext cx="47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                  υπάρχουν φθίνουσες ταλαντώσει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76240" y="5791320"/>
          <a:ext cx="99072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6240" y="5791320"/>
                    <a:ext cx="9907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371600" y="2514600"/>
            <a:ext cx="6400800" cy="28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3EE-DC8B-4877-A2E1-8291CCDF4E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67560" y="194328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                  υπάρχουν μη αποσβενούμενες ταλαντώσεις σταθερού πλάτου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76240" y="1905120"/>
          <a:ext cx="99072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1905120"/>
                    <a:ext cx="9907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133720" y="2286000"/>
            <a:ext cx="5362560" cy="40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6EC-A2BB-41E2-8FF0-858F13AF58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67920" y="19432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                  υπάρχουν ταλαντώσεις με αυξανόμενο πλάτ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76240" y="1905120"/>
          <a:ext cx="99072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1905120"/>
                    <a:ext cx="9907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6858000" cy="40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77F-258F-4710-9508-B20E923E74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2266920"/>
          <a:ext cx="9144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66920"/>
                    <a:ext cx="914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952200" y="1949400"/>
            <a:ext cx="72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αραίτητη προϋπόθεση για το συντονισμό παραμέτρων με την μέθοδ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88480" y="2629080"/>
            <a:ext cx="321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-m=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.χ.                          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Γ.Τ.Ρ παραμένει 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76520" y="2540160"/>
          <a:ext cx="121932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6520" y="2540160"/>
                    <a:ext cx="12193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457200" y="3581280"/>
            <a:ext cx="3809880" cy="2605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569840" y="2585880"/>
            <a:ext cx="44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-m=2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άρχουν 2 ασύμπτωτοι του Γ.Τ.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παραμένουν πάλι 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.H.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648320" y="2895480"/>
          <a:ext cx="990360" cy="382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2895480"/>
                    <a:ext cx="9903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4876920" y="3429000"/>
            <a:ext cx="3879720" cy="327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0FB-773C-49AD-9816-7EC5284DF1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1:06:14Z</dcterms:created>
  <dc:creator>WIN2K</dc:creator>
  <dc:description/>
  <dc:language>en-US</dc:language>
  <cp:lastModifiedBy>WinUser</cp:lastModifiedBy>
  <dcterms:modified xsi:type="dcterms:W3CDTF">2004-04-26T08:03:3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65196409</vt:r8>
  </property>
  <property fmtid="{D5CDD505-2E9C-101B-9397-08002B2CF9AE}" pid="3" name="_AuthorEmail">
    <vt:lpwstr>tzes@ee.upatras.gr</vt:lpwstr>
  </property>
  <property fmtid="{D5CDD505-2E9C-101B-9397-08002B2CF9AE}" pid="4" name="_AuthorEmailDisplayName">
    <vt:lpwstr>Tzes Anthony</vt:lpwstr>
  </property>
  <property fmtid="{D5CDD505-2E9C-101B-9397-08002B2CF9AE}" pid="5" name="_EmailSubject">
    <vt:lpwstr>Power_point_presentations_4_SAE2</vt:lpwstr>
  </property>
</Properties>
</file>