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9.wmf" ContentType="image/x-wmf"/>
  <Override PartName="/ppt/media/image9.wmf" ContentType="image/x-wmf"/>
  <Override PartName="/ppt/media/image13.wmf" ContentType="image/x-wmf"/>
  <Override PartName="/ppt/media/image1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37.wmf" ContentType="image/x-wmf"/>
  <Override PartName="/ppt/media/image20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24.wmf" ContentType="image/x-wmf"/>
  <Override PartName="/ppt/media/image61.wmf" ContentType="image/x-wmf"/>
  <Override PartName="/ppt/media/image7.wmf" ContentType="image/x-wmf"/>
  <Override PartName="/ppt/media/image19.wmf" ContentType="image/x-wmf"/>
  <Override PartName="/ppt/media/image62.wmf" ContentType="image/x-wmf"/>
  <Override PartName="/ppt/media/image63.wmf" ContentType="image/x-wmf"/>
  <Override PartName="/ppt/media/image65.wmf" ContentType="image/x-wmf"/>
  <Override PartName="/ppt/media/image31.wmf" ContentType="image/x-wmf"/>
  <Override PartName="/ppt/media/image68.wmf" ContentType="image/x-wmf"/>
  <Override PartName="/ppt/media/image66.wmf" ContentType="image/x-wmf"/>
  <Override PartName="/ppt/media/image67.wmf" ContentType="image/x-wmf"/>
  <Override PartName="/ppt/media/image64.wmf" ContentType="image/x-wmf"/>
  <Override PartName="/ppt/media/image81.png" ContentType="image/png"/>
  <Override PartName="/ppt/media/image79.wmf" ContentType="image/x-wmf"/>
  <Override PartName="/ppt/media/image78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69.wmf" ContentType="image/x-wmf"/>
  <Override PartName="/ppt/media/image32.wmf" ContentType="image/x-wmf"/>
  <Override PartName="/ppt/media/image71.wmf" ContentType="image/x-wmf"/>
  <Override PartName="/ppt/media/image29.wmf" ContentType="image/x-wmf"/>
  <Override PartName="/ppt/media/image70.wmf" ContentType="image/x-wmf"/>
  <Override PartName="/ppt/media/image28.wmf" ContentType="image/x-wmf"/>
  <Override PartName="/ppt/media/image25.wmf" ContentType="image/x-wmf"/>
  <Override PartName="/ppt/media/image57.png" ContentType="image/png"/>
  <Override PartName="/ppt/media/image2.wmf" ContentType="image/x-wmf"/>
  <Override PartName="/ppt/media/image14.wmf" ContentType="image/x-wmf"/>
  <Override PartName="/ppt/media/image26.wmf" ContentType="image/x-wmf"/>
  <Override PartName="/ppt/media/image80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82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53.png" ContentType="image/png"/>
  <Override PartName="/ppt/media/image10.wmf" ContentType="image/x-wmf"/>
  <Override PartName="/ppt/media/image47.wmf" ContentType="image/x-wmf"/>
  <Override PartName="/ppt/media/image18.wmf" ContentType="image/x-wmf"/>
  <Override PartName="/ppt/media/image83.wmf" ContentType="image/x-wmf"/>
  <Override PartName="/ppt/media/image6.wmf" ContentType="image/x-wmf"/>
  <Override PartName="/ppt/media/image36.wmf" ContentType="image/x-wmf"/>
  <Override PartName="/ppt/media/image54.png" ContentType="image/png"/>
  <Override PartName="/ppt/media/image11.wmf" ContentType="image/x-wmf"/>
  <Override PartName="/ppt/media/image4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CD38-5F6B-4E9E-8751-18B2DAFE8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FB7E-67F5-4CD1-AC09-AA0B461DD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49C1-6D0F-4291-9D26-D9C159337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7B44-4BA6-43FF-8D15-F8DCD8956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72A62-665D-4D78-A5A8-E809DAA8C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A697A-987B-4C40-89A3-DD920DF0E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3954F-20CA-4373-A32A-06B0D77D4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D177B-5E54-4AEF-A21E-8059C1F48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AC8EF-DCF9-438E-9436-3A6CCBAA4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7C8E2-5882-446E-BC03-3BDFFDC43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891BE-BF72-4E87-AE12-B27148F6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512C-6998-422E-8BCE-002029F60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662C5-D2EE-48E5-B4FD-E525C671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66F0D-DE77-4558-ACB2-F002BFDC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A01FC-6D0F-42EE-82DA-95FD30126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9E74E-7CAE-460D-81AB-A69A9D976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D0789-6988-43B0-8FA4-F3814CC2A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AA59-4708-4417-A947-9FC405F48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47FD-9FAC-4D49-B8B4-68341A8C2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681C-53FB-4C3D-84BC-A7A84E650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32A2-8EF5-4816-99C1-9E5469166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D5B2-D8E5-4CD7-AD65-7991C32B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89FD-8387-453E-AF49-8EBF6A51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6506-E515-4BC4-8087-960E8880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16916-7376-4B69-AAF0-5B3C596ED50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2D632-12D6-4D2A-ADF3-2D78866EF5D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0.wmf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4.wmf"/><Relationship Id="rId8" Type="http://schemas.openxmlformats.org/officeDocument/2006/relationships/image" Target="../media/image45.wm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image" Target="../media/image4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2.wmf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5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image" Target="../media/image57.png"/><Relationship Id="rId4" Type="http://schemas.openxmlformats.org/officeDocument/2006/relationships/image" Target="../media/image58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0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3.wmf"/><Relationship Id="rId9" Type="http://schemas.openxmlformats.org/officeDocument/2006/relationships/image" Target="../media/image6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66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67.wmf"/><Relationship Id="rId1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76.wmf"/><Relationship Id="rId23" Type="http://schemas.openxmlformats.org/officeDocument/2006/relationships/image" Target="../media/image77.wmf"/><Relationship Id="rId2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9.wmf"/><Relationship Id="rId5" Type="http://schemas.openxmlformats.org/officeDocument/2006/relationships/image" Target="../media/image80.wmf"/><Relationship Id="rId6" Type="http://schemas.openxmlformats.org/officeDocument/2006/relationships/image" Target="../media/image81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82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83.wm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1.wmf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3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31.wmf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1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535960" y="647712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2438280"/>
            <a:ext cx="69501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Ύλη μαθήματο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d-Lag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λεγκτέ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D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ελεγκτές (95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εκτός διαγράμματα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yquist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chols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93240" y="4267080"/>
            <a:ext cx="56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ιακριτός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Ψ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φιακός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υτόματος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Έ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εγχος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27600" y="4724280"/>
            <a:ext cx="531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ΨΗΦΙΑΚΟΣ ΑΥΤΟΜΑΤΟΣ ΕΛΕΓΧΟΣ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495288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85760" y="5334120"/>
            <a:ext cx="5994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ργαστήρι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l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view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συλλογή και αποστολή δεδομένων 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 Instruments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95F3-B343-4F82-826B-C3F05A636CF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4267080" y="3048120"/>
            <a:ext cx="4648320" cy="34858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1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535960" y="647712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19360" y="2171880"/>
            <a:ext cx="28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Για αυτό το κέρδος     έχουμ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4719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2724120" y="2133720"/>
          <a:ext cx="23328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24120" y="2133720"/>
                    <a:ext cx="2332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308124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3809880" y="1987560"/>
          <a:ext cx="4038840" cy="888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9880" y="1987560"/>
                    <a:ext cx="403884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282600" y="2743200"/>
            <a:ext cx="4594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Παρατηρώ ότι                 .     . Υπάρχει σημαντική ελάττωση του σφάλματος μόνιμης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κατάστασης για τις ίδιες τιμές των κυρίαρχων πόλων. 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g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ελεγκτής βελτιώνει κύρια τη μόνιμη απόκριση του συστήματος, ενώ χειροτερεύει ανεπαίσθητα τη μεταβατική (την κάνει ανεπαίσθητα πιο αργή λόγω μεταβολής της φυσικής συχνότητας      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0575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1676520" y="2666880"/>
          <a:ext cx="1295280" cy="492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76520" y="2666880"/>
                    <a:ext cx="129528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44766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2666880" y="4648320"/>
          <a:ext cx="31752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666880" y="4648320"/>
                    <a:ext cx="3175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265320" y="5029200"/>
            <a:ext cx="430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ι γίνεται σε περίπτωση όπου ο πόλος και τ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μηδενικό του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g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δεν τεθούν κοντά στον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φανταστικό άξονα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Π.χ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63384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630440" y="5827680"/>
          <a:ext cx="1463760" cy="579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30440" y="5827680"/>
                    <a:ext cx="146376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4783320" y="6438960"/>
            <a:ext cx="25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Ο Γ.Τ.Π αλλάζει αισθητ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3B41-1F0A-480A-B16C-4EE7740A01D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1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535960" y="647712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914400" y="220968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λεγκτής προήγησης φάσης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d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40960" y="3062160"/>
            <a:ext cx="650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Χρησιμοποιείται κύρια για τη βελτίωση της μεταβατικής απόκριση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ρόπος υλοποίησης με παθητικά στοιχεί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00068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914400" y="2484360"/>
          <a:ext cx="1752480" cy="7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484360"/>
                    <a:ext cx="175248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1143000" y="3657600"/>
            <a:ext cx="2827440" cy="20145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595440" y="590544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όπο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11012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1219320" y="5791320"/>
          <a:ext cx="1447560" cy="671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19320" y="5791320"/>
                    <a:ext cx="144756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"/>
          <p:cNvSpPr/>
          <p:nvPr/>
        </p:nvSpPr>
        <p:spPr>
          <a:xfrm>
            <a:off x="430524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2895480" y="5910120"/>
          <a:ext cx="881280" cy="362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895480" y="5910120"/>
                    <a:ext cx="881280" cy="3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"/>
          <p:cNvSpPr/>
          <p:nvPr/>
        </p:nvSpPr>
        <p:spPr>
          <a:xfrm>
            <a:off x="5014080" y="3772080"/>
            <a:ext cx="29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Διάγραμμα πόλων-μηδενικώ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8"/>
          <a:stretch/>
        </p:blipFill>
        <p:spPr>
          <a:xfrm>
            <a:off x="5105520" y="4191120"/>
            <a:ext cx="2844720" cy="2319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86C7-5421-44EF-B61D-5736C07E90E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1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535960" y="647712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93880" y="2171880"/>
            <a:ext cx="812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ν ζητείται η ταχύτερη απόκριση του συστήματος        αύξηση του     (και διατήρησ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ου ζ)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ν                  (ακύρωση του πόλου του συστήματος –1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715000" y="2362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4766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7210440" y="2162160"/>
          <a:ext cx="349200" cy="41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10440" y="2162160"/>
                    <a:ext cx="34920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"/>
          <p:cNvSpPr/>
          <p:nvPr/>
        </p:nvSpPr>
        <p:spPr>
          <a:xfrm>
            <a:off x="43387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1442880" y="2590920"/>
          <a:ext cx="766800" cy="64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2880" y="2590920"/>
                    <a:ext cx="766800" cy="64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4" name="" descr=""/>
          <p:cNvPicPr/>
          <p:nvPr/>
        </p:nvPicPr>
        <p:blipFill>
          <a:blip r:embed="rId5"/>
          <a:stretch/>
        </p:blipFill>
        <p:spPr>
          <a:xfrm>
            <a:off x="762120" y="3124080"/>
            <a:ext cx="4098960" cy="346896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5165280" y="3162240"/>
            <a:ext cx="362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Η τοποθέτηση του πόλου στο 1/{αΤ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Ορίζεται από τη συνθήκη της φάση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10032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648320" y="3886200"/>
          <a:ext cx="4495680" cy="392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48320" y="3886200"/>
                    <a:ext cx="449568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4938840" y="41529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όπο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90988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4952880" y="4495680"/>
          <a:ext cx="4191120" cy="565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952880" y="4495680"/>
                    <a:ext cx="419112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"/>
          <p:cNvSpPr/>
          <p:nvPr/>
        </p:nvSpPr>
        <p:spPr>
          <a:xfrm>
            <a:off x="4938120" y="5143680"/>
            <a:ext cx="31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ν το επιθυμητό σημείο είναι τ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ότε πρέπε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01472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6089760" y="5416560"/>
          <a:ext cx="1911240" cy="3747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089760" y="5416560"/>
                    <a:ext cx="1911240" cy="3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"/>
          <p:cNvSpPr/>
          <p:nvPr/>
        </p:nvSpPr>
        <p:spPr>
          <a:xfrm>
            <a:off x="449568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8048520" y="5162400"/>
          <a:ext cx="257400" cy="3049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8048520" y="5162400"/>
                    <a:ext cx="25740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E9B6-CDF9-441B-8B9A-54EA8364DF2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1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535960" y="647712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84000" y="2452680"/>
            <a:ext cx="35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Ενδεικτικά ο Γ.Τ.Ρ. για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(s)=k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είνα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798800" y="2209680"/>
            <a:ext cx="400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Ενώ ο Γ.Τ.Ρ. μετατοπίζεται αισθητά προ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α αριστερά (ταχύτερη απόκριση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Π.χ. για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90512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selida3" descr=""/>
          <p:cNvPicPr/>
          <p:nvPr/>
        </p:nvPicPr>
        <p:blipFill>
          <a:blip r:embed="rId1"/>
          <a:stretch/>
        </p:blipFill>
        <p:spPr>
          <a:xfrm>
            <a:off x="0" y="30862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190512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selida3_2" descr=""/>
          <p:cNvPicPr/>
          <p:nvPr/>
        </p:nvPicPr>
        <p:blipFill>
          <a:blip r:embed="rId2"/>
          <a:stretch/>
        </p:blipFill>
        <p:spPr>
          <a:xfrm>
            <a:off x="4572000" y="31240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41004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5638680" y="2733840"/>
          <a:ext cx="1309680" cy="54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2733840"/>
                    <a:ext cx="130968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9614-3CC0-4A7A-892E-F7F0FF19B09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1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535960" y="647712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44480" y="2171880"/>
            <a:ext cx="378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ν δεν ακυρωθεί ακριβώς ο πόλος το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συστήματος στο –1 (π.χ.                  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Ο Γ.Τ.Π. είνα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2530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3124080" y="2376360"/>
          <a:ext cx="990720" cy="60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2376360"/>
                    <a:ext cx="99072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1" name=""/>
          <p:cNvSpPr/>
          <p:nvPr/>
        </p:nvSpPr>
        <p:spPr>
          <a:xfrm>
            <a:off x="190512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selida3_3" descr=""/>
          <p:cNvPicPr/>
          <p:nvPr/>
        </p:nvPicPr>
        <p:blipFill>
          <a:blip r:embed="rId3"/>
          <a:stretch/>
        </p:blipFill>
        <p:spPr>
          <a:xfrm>
            <a:off x="0" y="3200400"/>
            <a:ext cx="4572000" cy="36576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4876200" y="2147760"/>
            <a:ext cx="406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Η μεγέθυνση στην περιοχή ενδιαφέροντο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δείχνει ότι ένας πόλος του κλειστού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Συστήματος «οδεύει» προς το μηδενικό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στο –1.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4"/>
          <a:stretch/>
        </p:blipFill>
        <p:spPr>
          <a:xfrm>
            <a:off x="5703840" y="3429000"/>
            <a:ext cx="2428920" cy="3124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9704-988C-43EF-9F6A-F467BF18A49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1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535960" y="647712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98560" y="2095560"/>
            <a:ext cx="444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ντιστάθμιση προήγησης φάσης (συνέχεια.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19040" y="2558880"/>
            <a:ext cx="830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Χρησιμοποιείται για την ταχύτερη απόκριση του συστήματος, μετατοπίζοντας τον Γ.Τ.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προς τα αριστερ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9560" y="3351240"/>
            <a:ext cx="85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ντί της ακύρωσης του πόλου του συστήματος στο –1, γιατί δεν ακυρώνω τον πόλο στο 0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Π.χ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58920" y="4875120"/>
            <a:ext cx="873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ο σύστημα θα γίνει από τύπου 1 τύπου 0 με άμεση συνέπεια στο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Ένεκα πιθανώς κατασκευαστικών προβλημάτων είναι δυνατόν το μηδενικό να μετατοπισθε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στο δεξί ημιεπίπεδο                 και να υπάρχουν προβλήματα ευστάθεια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4766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6553080" y="4829040"/>
          <a:ext cx="38124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3080" y="4829040"/>
                    <a:ext cx="3812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"/>
          <p:cNvSpPr/>
          <p:nvPr/>
        </p:nvSpPr>
        <p:spPr>
          <a:xfrm>
            <a:off x="381492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1143000" y="3773520"/>
          <a:ext cx="2281320" cy="87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773520"/>
                    <a:ext cx="228132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"/>
          <p:cNvSpPr/>
          <p:nvPr/>
        </p:nvSpPr>
        <p:spPr>
          <a:xfrm>
            <a:off x="423396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2281320" y="5424480"/>
          <a:ext cx="1023840" cy="347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1320" y="5424480"/>
                    <a:ext cx="1023840" cy="3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249E-13B2-4C84-B615-44534FD57D8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1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535960" y="647712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69240" y="2171880"/>
            <a:ext cx="723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Σχεδιασμός αντισταθμιστή προήγησης φάσης με Γ.Τ.Ρ. (μέθοδος διχοτόμου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6960" y="2552760"/>
            <a:ext cx="570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ν   είναι ένας επιθυμητός πόλος του κλειστού συστήματος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885960" y="2576520"/>
          <a:ext cx="257040" cy="3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5960" y="2576520"/>
                    <a:ext cx="25704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"/>
          <p:cNvSpPr/>
          <p:nvPr/>
        </p:nvSpPr>
        <p:spPr>
          <a:xfrm>
            <a:off x="415764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6172200" y="2438280"/>
          <a:ext cx="1176480" cy="59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72200" y="2438280"/>
                    <a:ext cx="117648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519120" y="31622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Όπο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05288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1241280" y="3022560"/>
          <a:ext cx="3330720" cy="711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41280" y="3022560"/>
                    <a:ext cx="333072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"/>
          <p:cNvSpPr/>
          <p:nvPr/>
        </p:nvSpPr>
        <p:spPr>
          <a:xfrm>
            <a:off x="511200" y="3657600"/>
            <a:ext cx="32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πό τη συνθήκη της φάσης για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ο σύστημα                 (δες Γ.Τ.Ρ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1724040" y="3976560"/>
          <a:ext cx="990720" cy="322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24040" y="3976560"/>
                    <a:ext cx="990720" cy="3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70" name="" descr=""/>
          <p:cNvPicPr/>
          <p:nvPr/>
        </p:nvPicPr>
        <p:blipFill>
          <a:blip r:embed="rId9"/>
          <a:stretch/>
        </p:blipFill>
        <p:spPr>
          <a:xfrm>
            <a:off x="4572000" y="3429000"/>
            <a:ext cx="4214880" cy="293364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595440" y="445788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Πρέπε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58128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09480" y="4876920"/>
          <a:ext cx="3048120" cy="395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09480" y="4876920"/>
                    <a:ext cx="304812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5" name=""/>
          <p:cNvSpPr/>
          <p:nvPr/>
        </p:nvSpPr>
        <p:spPr>
          <a:xfrm>
            <a:off x="443160" y="56008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5193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838080" y="5559480"/>
          <a:ext cx="3124440" cy="3841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838080" y="5559480"/>
                    <a:ext cx="312444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444348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2022480" y="5967360"/>
          <a:ext cx="415800" cy="3240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022480" y="5967360"/>
                    <a:ext cx="41580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1881-081B-42E2-9702-BAEA648EFD9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1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535960" y="647712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86840" y="2133720"/>
            <a:ext cx="87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ο μηδενικό και ο πόλος του ελεγκτή μπορούν να υπολογιστούν με βάση τον εξής αλγόριθμ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28600" y="2590920"/>
            <a:ext cx="4114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Εύρεση διχοτόμου       γωνία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Εύρεση 2 ημιευθειών        και           έτσι ώστε                            κα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ο σημείο τομής της      με τον πραγματικό άξονα είναι ο πόλος        του ελεγκτ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ο σημείο τομής της       με τον πραγματικό άξονα είναι το μηδενικό     του ελεγκτ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44348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2286000" y="2590920"/>
          <a:ext cx="433440" cy="30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590920"/>
                    <a:ext cx="43344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434808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3352680" y="2590920"/>
          <a:ext cx="757440" cy="33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2590920"/>
                    <a:ext cx="757440" cy="3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4" name=""/>
          <p:cNvSpPr/>
          <p:nvPr/>
        </p:nvSpPr>
        <p:spPr>
          <a:xfrm>
            <a:off x="214560" y="5524560"/>
            <a:ext cx="285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πόδειξη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(άθροισμα γωνιών τριγώνου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44348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2590920" y="2844720"/>
          <a:ext cx="457200" cy="35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90920" y="2844720"/>
                    <a:ext cx="45720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8" name=""/>
          <p:cNvGraphicFramePr/>
          <p:nvPr/>
        </p:nvGraphicFramePr>
        <p:xfrm>
          <a:off x="3352680" y="2833560"/>
          <a:ext cx="457200" cy="35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52680" y="2833560"/>
                    <a:ext cx="45720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0" name=""/>
          <p:cNvSpPr/>
          <p:nvPr/>
        </p:nvSpPr>
        <p:spPr>
          <a:xfrm>
            <a:off x="413856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1523880" y="3124080"/>
          <a:ext cx="1524240" cy="401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23880" y="3124080"/>
                    <a:ext cx="152424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3" name=""/>
          <p:cNvGraphicFramePr/>
          <p:nvPr/>
        </p:nvGraphicFramePr>
        <p:xfrm>
          <a:off x="3417840" y="3122640"/>
          <a:ext cx="1546200" cy="401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17840" y="3122640"/>
                    <a:ext cx="154620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5" name=""/>
          <p:cNvGraphicFramePr/>
          <p:nvPr/>
        </p:nvGraphicFramePr>
        <p:xfrm>
          <a:off x="2486160" y="3395520"/>
          <a:ext cx="457200" cy="355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486160" y="3395520"/>
                    <a:ext cx="45720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7" name=""/>
          <p:cNvGraphicFramePr/>
          <p:nvPr/>
        </p:nvGraphicFramePr>
        <p:xfrm>
          <a:off x="2514600" y="4202280"/>
          <a:ext cx="457200" cy="355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514600" y="4202280"/>
                    <a:ext cx="457200" cy="35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9" name=""/>
          <p:cNvSpPr/>
          <p:nvPr/>
        </p:nvSpPr>
        <p:spPr>
          <a:xfrm>
            <a:off x="438624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3581280" y="3657600"/>
          <a:ext cx="609840" cy="360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581280" y="3657600"/>
                    <a:ext cx="60984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1773360" y="4767120"/>
          <a:ext cx="566640" cy="3603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773360" y="4767120"/>
                    <a:ext cx="56664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4" name=""/>
          <p:cNvSpPr/>
          <p:nvPr/>
        </p:nvSpPr>
        <p:spPr>
          <a:xfrm>
            <a:off x="365292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1295280" y="5486400"/>
          <a:ext cx="3048120" cy="4269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295280" y="5486400"/>
                    <a:ext cx="304812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17" name="" descr=""/>
          <p:cNvPicPr/>
          <p:nvPr/>
        </p:nvPicPr>
        <p:blipFill>
          <a:blip r:embed="rId23"/>
          <a:stretch/>
        </p:blipFill>
        <p:spPr>
          <a:xfrm>
            <a:off x="4572000" y="3508200"/>
            <a:ext cx="4325760" cy="2892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4071-EF56-44DB-AC8E-BE4F62F2582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1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535960" y="647712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17656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457200" y="2057400"/>
          <a:ext cx="7010280" cy="73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057400"/>
                    <a:ext cx="7010280" cy="7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5" name=""/>
          <p:cNvSpPr/>
          <p:nvPr/>
        </p:nvSpPr>
        <p:spPr>
          <a:xfrm>
            <a:off x="42908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6" name=""/>
          <p:cNvGraphicFramePr/>
          <p:nvPr/>
        </p:nvGraphicFramePr>
        <p:xfrm>
          <a:off x="609480" y="2827440"/>
          <a:ext cx="866880" cy="60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2827440"/>
                    <a:ext cx="86688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8" name=""/>
          <p:cNvSpPr/>
          <p:nvPr/>
        </p:nvSpPr>
        <p:spPr>
          <a:xfrm>
            <a:off x="2309760" y="23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9" name="selida10block1" descr=""/>
          <p:cNvPicPr/>
          <p:nvPr/>
        </p:nvPicPr>
        <p:blipFill>
          <a:blip r:embed="rId5"/>
          <a:stretch/>
        </p:blipFill>
        <p:spPr>
          <a:xfrm>
            <a:off x="0" y="3429000"/>
            <a:ext cx="4572000" cy="222408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190512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selida10" descr=""/>
          <p:cNvPicPr/>
          <p:nvPr/>
        </p:nvPicPr>
        <p:blipFill>
          <a:blip r:embed="rId6"/>
          <a:stretch/>
        </p:blipFill>
        <p:spPr>
          <a:xfrm>
            <a:off x="4648320" y="2971800"/>
            <a:ext cx="4495680" cy="266688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314784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228600" y="5791320"/>
          <a:ext cx="4343400" cy="682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" y="5791320"/>
                    <a:ext cx="434340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"/>
          <p:cNvSpPr/>
          <p:nvPr/>
        </p:nvSpPr>
        <p:spPr>
          <a:xfrm>
            <a:off x="334800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4952880" y="5491080"/>
          <a:ext cx="3429000" cy="1214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952880" y="5491080"/>
                    <a:ext cx="3429000" cy="12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5FC9-B282-4F34-9348-15C3FCEA257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1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535960" y="647712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selida1block1" descr=""/>
          <p:cNvPicPr/>
          <p:nvPr/>
        </p:nvPicPr>
        <p:blipFill>
          <a:blip r:embed="rId1"/>
          <a:stretch/>
        </p:blipFill>
        <p:spPr>
          <a:xfrm>
            <a:off x="1981080" y="1905120"/>
            <a:ext cx="5257800" cy="16984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381560" y="3733920"/>
            <a:ext cx="342720" cy="571320"/>
          </a:xfrm>
          <a:prstGeom prst="downArrow">
            <a:avLst>
              <a:gd name="adj1" fmla="val 50000"/>
              <a:gd name="adj2" fmla="val 41675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3860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selida1block2" descr=""/>
          <p:cNvPicPr/>
          <p:nvPr/>
        </p:nvPicPr>
        <p:blipFill>
          <a:blip r:embed="rId2"/>
          <a:stretch/>
        </p:blipFill>
        <p:spPr>
          <a:xfrm>
            <a:off x="1447920" y="4343400"/>
            <a:ext cx="6248160" cy="18255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85800" y="3990960"/>
            <a:ext cx="3809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ΙΑΚΡΙΤΟΣ ΑΥΤΟΜΑΤΟΣ ΕΛΕΓΧΟ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AC2E-8CB5-4BC9-BE83-F1C78414576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1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535960" y="647712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3860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selida2block3" descr=""/>
          <p:cNvPicPr/>
          <p:nvPr/>
        </p:nvPicPr>
        <p:blipFill>
          <a:blip r:embed="rId1"/>
          <a:stretch/>
        </p:blipFill>
        <p:spPr>
          <a:xfrm>
            <a:off x="609480" y="2637000"/>
            <a:ext cx="1447920" cy="715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0" name=""/>
          <p:cNvGraphicFramePr/>
          <p:nvPr/>
        </p:nvGraphicFramePr>
        <p:xfrm>
          <a:off x="2362320" y="2743200"/>
          <a:ext cx="1676160" cy="50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2743200"/>
                    <a:ext cx="167616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2" name="selida1block4" descr=""/>
          <p:cNvPicPr/>
          <p:nvPr/>
        </p:nvPicPr>
        <p:blipFill>
          <a:blip r:embed="rId4"/>
          <a:stretch/>
        </p:blipFill>
        <p:spPr>
          <a:xfrm>
            <a:off x="914400" y="3429000"/>
            <a:ext cx="2514600" cy="1809720"/>
          </a:xfrm>
          <a:prstGeom prst="rect">
            <a:avLst/>
          </a:prstGeom>
          <a:ln w="0">
            <a:noFill/>
          </a:ln>
        </p:spPr>
      </p:pic>
      <p:pic>
        <p:nvPicPr>
          <p:cNvPr id="123" name="selida2block1" descr=""/>
          <p:cNvPicPr/>
          <p:nvPr/>
        </p:nvPicPr>
        <p:blipFill>
          <a:blip r:embed="rId5"/>
          <a:stretch/>
        </p:blipFill>
        <p:spPr>
          <a:xfrm>
            <a:off x="1371600" y="5334120"/>
            <a:ext cx="1523880" cy="365040"/>
          </a:xfrm>
          <a:prstGeom prst="rect">
            <a:avLst/>
          </a:prstGeom>
          <a:ln w="0">
            <a:noFill/>
          </a:ln>
        </p:spPr>
      </p:pic>
      <p:pic>
        <p:nvPicPr>
          <p:cNvPr id="124" name="selida2block2" descr=""/>
          <p:cNvPicPr/>
          <p:nvPr/>
        </p:nvPicPr>
        <p:blipFill>
          <a:blip r:embed="rId6"/>
          <a:stretch/>
        </p:blipFill>
        <p:spPr>
          <a:xfrm>
            <a:off x="5029200" y="1752480"/>
            <a:ext cx="3809880" cy="2297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"/>
          <p:cNvGraphicFramePr/>
          <p:nvPr/>
        </p:nvGraphicFramePr>
        <p:xfrm>
          <a:off x="1447920" y="5791320"/>
          <a:ext cx="1600200" cy="625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47920" y="5791320"/>
                    <a:ext cx="160020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7" name="selida2block33" descr=""/>
          <p:cNvPicPr/>
          <p:nvPr/>
        </p:nvPicPr>
        <p:blipFill>
          <a:blip r:embed="rId9"/>
          <a:stretch/>
        </p:blipFill>
        <p:spPr>
          <a:xfrm>
            <a:off x="5086440" y="4191120"/>
            <a:ext cx="3676680" cy="22176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10200" y="1981080"/>
            <a:ext cx="329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Παράδειγμα υλοποίησης ελεγκτή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στο συνεχές πεδί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3FF0-5589-45CA-9CEA-678BAA99C0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1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535960" y="647712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selida2block24" descr=""/>
          <p:cNvPicPr/>
          <p:nvPr/>
        </p:nvPicPr>
        <p:blipFill>
          <a:blip r:embed="rId1"/>
          <a:stretch/>
        </p:blipFill>
        <p:spPr>
          <a:xfrm>
            <a:off x="957240" y="2971800"/>
            <a:ext cx="7238880" cy="23162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33520" y="236232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ετρήσεις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, όπου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 #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its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με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523880" y="2362320"/>
          <a:ext cx="304920" cy="30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2362320"/>
                    <a:ext cx="30492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3276720" y="2371680"/>
          <a:ext cx="914400" cy="357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76720" y="2371680"/>
                    <a:ext cx="91440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A178-C32A-4A5B-9E05-4136DB85F25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80880" y="3429000"/>
            <a:ext cx="4191120" cy="31496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30248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-4068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1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548560" y="647712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2120" y="22478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Έστω Σύστημ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7180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286000" y="2162160"/>
          <a:ext cx="1981080" cy="63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2162160"/>
                    <a:ext cx="198108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686520" y="2743200"/>
            <a:ext cx="238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Να σχεδιαστεί ελεγκτή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3600" y="3124080"/>
            <a:ext cx="567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) Έτσι ώστε οι κυρίαρχοι πόλοι να έχουν απόσβεση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</a:rPr>
              <a:t>ζ=0.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ν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(s)=k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Γ.Τ.Π. είνα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4800600" y="1981080"/>
            <a:ext cx="3755880" cy="12193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572720" y="4111560"/>
            <a:ext cx="459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Έχω δύο κυρίαρχους πόλους που υπολογίζοντα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πό την τομή του Γ.Τ.Π. με μια ευθεία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γωνίας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1016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5486400" y="4800600"/>
          <a:ext cx="2514600" cy="333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86400" y="4800600"/>
                    <a:ext cx="25146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4708440" y="5500800"/>
            <a:ext cx="30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υτό επιτυγχάνεται για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=4.8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790C-2EFB-4285-A423-E542ABEFAFE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selida7block1" descr=""/>
          <p:cNvPicPr/>
          <p:nvPr/>
        </p:nvPicPr>
        <p:blipFill>
          <a:blip r:embed="rId1"/>
          <a:stretch/>
        </p:blipFill>
        <p:spPr>
          <a:xfrm>
            <a:off x="4191120" y="3238560"/>
            <a:ext cx="4419360" cy="33145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30248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-4068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1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548560" y="647712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7180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1016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19000" y="230040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ν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(t)=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3578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3578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200400" y="2286000"/>
          <a:ext cx="762120" cy="40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0400" y="2286000"/>
                    <a:ext cx="76212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834840" y="2895480"/>
            <a:ext cx="149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ν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(t)=t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31488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3200400" y="2666880"/>
          <a:ext cx="4038480" cy="933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00400" y="2666880"/>
                    <a:ext cx="403848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2438280" y="251460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57360" y="304812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840" y="3429000"/>
            <a:ext cx="434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Για να μειωθεί τ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πρέπει να αυξηθεί το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ν                 τότε ο Γ.Τ.Π. είνα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766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057400" y="3352680"/>
          <a:ext cx="380880" cy="457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57400" y="3352680"/>
                    <a:ext cx="3808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304920" y="4724280"/>
            <a:ext cx="31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Και το κλειστό σύστημα είναι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σταθέ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2814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762120" y="3917880"/>
          <a:ext cx="838080" cy="563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62120" y="3917880"/>
                    <a:ext cx="83808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190512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4709-7321-4F4C-97E5-39E4EB6AF5F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1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535960" y="647712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1960" y="213372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Ελεγκτής καθυστέρησης φάσης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962520" y="1981080"/>
            <a:ext cx="4716360" cy="18003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0" y="3962520"/>
            <a:ext cx="46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ρόπος υλοποίησης με παθητικά στοιχεία (Α=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8116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selida7block3" descr=""/>
          <p:cNvPicPr/>
          <p:nvPr/>
        </p:nvPicPr>
        <p:blipFill>
          <a:blip r:embed="rId2"/>
          <a:stretch/>
        </p:blipFill>
        <p:spPr>
          <a:xfrm>
            <a:off x="4876920" y="3994200"/>
            <a:ext cx="3352680" cy="23590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1004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4648320"/>
          <a:ext cx="1523880" cy="69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4648320"/>
                    <a:ext cx="1523880" cy="69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43005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95280" y="5334120"/>
          <a:ext cx="990720" cy="399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5334120"/>
                    <a:ext cx="99072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0A30-A2E6-48DB-A1C4-B891F77A2A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4572000" cy="3124080"/>
          </a:xfrm>
          <a:prstGeom prst="rect">
            <a:avLst/>
          </a:prstGeom>
          <a:ln w="0">
            <a:noFill/>
          </a:ln>
        </p:spPr>
      </p:pic>
      <p:pic>
        <p:nvPicPr>
          <p:cNvPr id="196" name="selida6" descr=""/>
          <p:cNvPicPr/>
          <p:nvPr/>
        </p:nvPicPr>
        <p:blipFill>
          <a:blip r:embed="rId2"/>
          <a:stretch/>
        </p:blipFill>
        <p:spPr>
          <a:xfrm>
            <a:off x="0" y="3429000"/>
            <a:ext cx="4572000" cy="31240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1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535960" y="647712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98116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004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3005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79080" y="1981080"/>
            <a:ext cx="838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Για να αλλάξει ριζικά ο Γ.Τ.Ρ. Θέτω τον πόλο και το μηδενικό όσο γίνεται πιο κοντά στ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φανταστικό άξον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Ο μόνος περιορισμός είναι λόγω κατασκευαστικών δυσκολιών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4812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647720" y="2819520"/>
          <a:ext cx="1919520" cy="64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47720" y="2819520"/>
                    <a:ext cx="19195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670320" y="291924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Π.χ. Α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2051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1476360" y="3352680"/>
          <a:ext cx="1114560" cy="333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76360" y="3352680"/>
                    <a:ext cx="111456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422424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304920" y="3352680"/>
          <a:ext cx="1066680" cy="335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3352680"/>
                    <a:ext cx="106668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424332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2743200" y="3359160"/>
          <a:ext cx="1066680" cy="324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43200" y="3359160"/>
                    <a:ext cx="106668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837000" y="4191120"/>
            <a:ext cx="19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Ο νέος Γ.Τ.Ρ. είνα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0512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343400" y="468648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268160" y="426708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o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6A58-06E6-4FD6-82F7-78A338709B9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4952880" cy="37148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1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535960" y="647712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71280" y="2171880"/>
            <a:ext cx="76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Όπου για τον ίδιο συντελεστή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</a:rPr>
              <a:t>ζ=0.4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και συνάρτηση μεταφοράς ανοιχτού βρόχο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71484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066680" y="2514600"/>
          <a:ext cx="2286000" cy="596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2514600"/>
                    <a:ext cx="22860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5318280" y="377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94600" y="405288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Η τιμή του     είνα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719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477120" y="3962520"/>
          <a:ext cx="274680" cy="533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77120" y="3962520"/>
                    <a:ext cx="27468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319572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5029200" y="4762440"/>
          <a:ext cx="3733920" cy="7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029200" y="4762440"/>
                    <a:ext cx="373392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209E-7A30-4829-B2DC-A20275AEA5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7T10:43:43Z</dcterms:created>
  <dc:creator>WIN2K</dc:creator>
  <dc:description/>
  <dc:language>en-US</dc:language>
  <cp:lastModifiedBy>WinUser</cp:lastModifiedBy>
  <dcterms:modified xsi:type="dcterms:W3CDTF">2004-04-26T07:55:23Z</dcterms:modified>
  <cp:revision>2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97896344</vt:r8>
  </property>
  <property fmtid="{D5CDD505-2E9C-101B-9397-08002B2CF9AE}" pid="3" name="_AuthorEmail">
    <vt:lpwstr>tzes@ee.upatras.gr</vt:lpwstr>
  </property>
  <property fmtid="{D5CDD505-2E9C-101B-9397-08002B2CF9AE}" pid="4" name="_AuthorEmailDisplayName">
    <vt:lpwstr>Tzes Anthony</vt:lpwstr>
  </property>
  <property fmtid="{D5CDD505-2E9C-101B-9397-08002B2CF9AE}" pid="5" name="_EmailSubject">
    <vt:lpwstr>Power_point_presentations_4_SAE2</vt:lpwstr>
  </property>
</Properties>
</file>