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4E4-7F6C-4D18-826E-4267A6E2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2D6-31E8-4F39-A9B6-A2C17452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132-7454-4B1B-BD53-A789ECDE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E19-EAD0-4CAE-B136-3AC4C84C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5517-FA25-448E-A8CB-3C8554D9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F075-73E2-45FD-8F8A-C89A5D4C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BE7D-C1D1-48E2-8BC8-D966293A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8D38-6ABD-44C6-AAC1-C256B678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804C-70D7-44D5-9E9D-1A5DD713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D471-4D2E-4FCB-9D61-9B01D46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D7CE-8385-4581-9810-4340E4E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5D6-3C07-4EC8-B229-8F296A3D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BFBA-BA2E-47B2-A4B6-BBD9278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50D5-07E4-4279-A765-1BB434E9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B031-3048-4090-9923-DCA8BD9E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1E04-D715-45AB-9F3C-C73075A8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6533-A83E-4739-AFBF-B65167A3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AA4-6142-4962-B655-63245299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DBF-52DA-405F-9617-3CDC8562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D01-E1CF-4BAF-94BA-5980847B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99C-1F95-4408-926E-4DCA3DEF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E37-F214-4C3F-8FF1-3079D049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F2A-1591-4B17-92D2-81C4EA4F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98C-56D7-4839-8EA7-1ABEA71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DB7D-8AB9-4A60-9B5D-D115ADA9A2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A233-2679-43A4-8B42-ECDF373801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3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1440" y="20574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χεδιασμός ελεγκτή στο πεδίο συχνότητ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0040" y="255276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στάθμιση Κέρδ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40992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24280" y="2451240"/>
            <a:ext cx="4260960" cy="425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915-CDB1-4E8F-A854-C2E2F4FD75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3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7840" y="19051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ην αντιστορφή του προσήμου χρησιμοποιώ το ακόλουθο κύκλω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35440" y="2165400"/>
            <a:ext cx="3236760" cy="2101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5880" y="4343400"/>
            <a:ext cx="70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εύρος των τιμών εξαρτάται από τις τάσεις τροφοδοσίας του τελεστικο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004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43800" y="4351320"/>
          <a:ext cx="1371600" cy="37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4351320"/>
                    <a:ext cx="1371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72120" y="4724280"/>
            <a:ext cx="1214280" cy="200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B17-0823-4817-8F51-954FF45D4E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3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004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5480" y="2590920"/>
            <a:ext cx="749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έραν της τάσης τροφοδοσίας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ημαντική παράμετρος είναι το μέγιστο ρεύμα εξόδου (π.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741 – 20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ην «αγορά» μπορούν να βρεθούν γραμμικοί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witching) op-amp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V,                 A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.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pex.com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μεγαλύτερη ισχύ &gt;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ήθως χρησιμοποιούντ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switching” amplifier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.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gal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528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876920" y="2570040"/>
          <a:ext cx="53316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70040"/>
                    <a:ext cx="533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2624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705120" y="4067280"/>
          <a:ext cx="13716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5120" y="4067280"/>
                    <a:ext cx="1371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3099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410080" y="4038480"/>
          <a:ext cx="1176480" cy="5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4038480"/>
                    <a:ext cx="1176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3A8-ED34-490D-9C31-5A25F59E2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3099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312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αρακτηριστική απόκριση ενισχυτή κέρδ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62520" y="3402000"/>
            <a:ext cx="4343400" cy="333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9DA-5D87-41B7-B0C4-C4C26AA349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233960" y="33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02480" y="91440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40680" y="64072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548560" y="646920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74600" y="6094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0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14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2600" y="2095560"/>
            <a:ext cx="60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αρακτηριστική ενισχυτή κέρδους, δεδομένου του περιορισμο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931080" y="2098800"/>
          <a:ext cx="12240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2098800"/>
                    <a:ext cx="1224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selida17_3" descr=""/>
          <p:cNvPicPr/>
          <p:nvPr/>
        </p:nvPicPr>
        <p:blipFill>
          <a:blip r:embed="rId3"/>
          <a:stretch/>
        </p:blipFill>
        <p:spPr>
          <a:xfrm>
            <a:off x="0" y="251460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14800" y="2438280"/>
            <a:ext cx="4511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ή συχνότητα λειτουργία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α η μέγιστη συχνότητα που περνάει από αυτούς τους ενισχυτέ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υχνότητες μέχρι  …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υπικά αυτοί οι ενισχυτές φτάνουν μέχρι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στην πράξη μέχρι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Για ασφάλεια φτάνω μέ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ό θερμοκρασιακό όριο λειτουργ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ές είναι οι θερμοκρασίες λειτουργίας αυτών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εωρητικά μέχρι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Όριο ασφαλεία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τω όριο: Θεωρητικά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Όριο ασφαλεία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 χαμηλότερες θερμοκρασίες βάζω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FE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FE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01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162920" y="2438280"/>
          <a:ext cx="1371600" cy="33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2438280"/>
                    <a:ext cx="13716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736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001000" y="4395960"/>
          <a:ext cx="1143000" cy="39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01000" y="4395960"/>
                    <a:ext cx="11430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43434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91320" y="5200560"/>
          <a:ext cx="685800" cy="30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91320" y="5200560"/>
                    <a:ext cx="68580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666880" y="541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953480" y="5191200"/>
          <a:ext cx="685800" cy="29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3480" y="5191200"/>
                    <a:ext cx="68580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400800" y="5486400"/>
          <a:ext cx="685800" cy="299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00800" y="5486400"/>
                    <a:ext cx="68580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257800" y="5757840"/>
          <a:ext cx="685800" cy="30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57800" y="5757840"/>
                    <a:ext cx="68580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C93-5A45-4469-8104-F1A70E3CFB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373392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στω ότ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81080" y="3738600"/>
          <a:ext cx="10670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738600"/>
                    <a:ext cx="10670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45200" y="4265640"/>
            <a:ext cx="750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ειδή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κλίση του διαγράμματος μέτορυ είναι 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/dec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ις χαμηλές συχνότη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3388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95280" y="4862520"/>
          <a:ext cx="121932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62520"/>
                    <a:ext cx="12193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47000" y="53481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(s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τύπου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1905120"/>
            <a:ext cx="68738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υστάθεια ανοικτού συστήματος απ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d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ιάγραμμ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υστάθεια κλειστού συστήματος απ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d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ιάγραμμα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ρκεί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&gt;0, GM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                         τότε το κλειστό είναι ασταθ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948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19120" y="3203640"/>
          <a:ext cx="152424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9120" y="3203640"/>
                    <a:ext cx="15242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3E7-8768-4E48-82A5-667D920623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79640" y="1836720"/>
            <a:ext cx="3397320" cy="1973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3280" y="430524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(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ύπου 0 και βηματική είσοδο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(t)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444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4800600"/>
          <a:ext cx="137160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4800600"/>
                    <a:ext cx="13716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8624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57320" y="5562720"/>
          <a:ext cx="2306520" cy="49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57320" y="5562720"/>
                    <a:ext cx="23065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E93-410C-4D20-BDE1-4B46EF29D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2139840"/>
            <a:ext cx="6858000" cy="305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6680" y="5410080"/>
            <a:ext cx="82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η μείωση του      πρέπει να μετατωπιστεί η καμπύλη του μέτρου προς τα πάνω στ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αμηλές συχνότητε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0" y="5410080"/>
          <a:ext cx="31752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5410080"/>
                    <a:ext cx="317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9DC-D92C-4F30-8856-DC491E9AAE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400" y="2095560"/>
            <a:ext cx="19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ιδανικό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ς επηρεάζε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απόκριση το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τήματος μόν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ις χαμηλέ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χνότη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479448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2D3-E2A3-48D6-82FE-0D35082B7A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8680" y="2171880"/>
            <a:ext cx="64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ς παρέχει καλύτερη απόκριση στη μόνιμη κατάστα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467480" y="2057400"/>
          <a:ext cx="1219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057400"/>
                    <a:ext cx="12193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45640" y="5829480"/>
            <a:ext cx="68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ώ συνήθως «χειροτερεύει» την μεταβατική απόκριση του συστήμα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306440" y="2666880"/>
            <a:ext cx="6531120" cy="317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B5D-5A7B-492F-A8D9-DCCC32409F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0" y="2695680"/>
            <a:ext cx="394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 σπάνιες περιπτώσεις ο αντισταθμιτή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πορεί να οδηγήσει το σύστημα σ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στάθεια, ένεκα της αρνητικής γωνία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φάσης που εισάγε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794120" cy="47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B48-B8CB-4649-93A8-8E9CDD846C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6324840" cy="466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7D0-40AF-4E86-A52F-A3E59F5EFB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14800" cy="3602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546880" y="2886120"/>
            <a:ext cx="25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άρτηση μεταφορ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3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952880" y="3962520"/>
          <a:ext cx="3657600" cy="146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3962520"/>
                    <a:ext cx="36576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92C-D3FC-4D91-B4F4-B4610679EB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0:57:36Z</dcterms:created>
  <dc:creator>WIN2K</dc:creator>
  <dc:description/>
  <dc:language>en-US</dc:language>
  <cp:lastModifiedBy>WinUser</cp:lastModifiedBy>
  <dcterms:modified xsi:type="dcterms:W3CDTF">2004-04-26T07:57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8667929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